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0831-1245-4A48-91C7-F57E9A90D5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D3D0-AD39-4E8F-941A-436D5D16A6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02F6-BBD6-4B80-A6F0-14F240B12C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70CE-1F00-44BE-8D4D-69CC07AF03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9B3B-D8D3-4C4A-9537-CA9C32DEE7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74EB-4B7F-4FE0-A770-62FEB6AA01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7643-448C-450D-9427-983418146B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EEE1-46B2-44E7-8A9B-4D91EAC4C6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EF2B-9C2B-4CF3-B1A7-BF443038AE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7874-4001-4DE1-A835-9E4E20F098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AC40-811D-49CD-88CF-8470EB2C2C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BFBE-E9E8-4575-B037-BDA69C027B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5EC6-3464-477F-AD80-2474D86AA7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312C-4A1F-4A26-9612-641184E3CE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EF77-1564-4375-B28E-49B46205A0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C380-FA7D-4CC8-98D5-2E1B02C7D5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9E0B-A349-4246-843B-9BBC83185E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C655-FC4A-487E-B18C-D26DDDD4EC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8310A-74CC-490A-BF2D-3A1884A8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819CA-8F6F-4785-844F-904FD513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5AA32-A0B0-41CB-AC4F-CADC5980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BF499-F205-4124-AC5E-3F62AC96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C67A0-ACF1-490D-A92A-180AF4F0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A3761-9F14-4F49-8159-7ABADF19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780EC-DB9E-40B6-AD9F-319153E7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57307-0DE6-4513-980F-7E6D50E5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B0516-257F-41C7-A347-4BBBD598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4E4D7-8763-43E8-A82A-A748F90B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65CE0-4AA1-4051-8249-F8C00C3F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CDD25-968D-4B0E-9327-31AE400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9025E-4CF1-44DD-8928-76073A5D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4C102-9C5E-4180-A478-57B178C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783D3-A62B-4E34-9B04-F0FF7082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EF646-B442-407E-A7B5-3FE230D0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91BAC-1A17-4053-B54F-540E092B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DF006-5898-475A-AA65-7A1677AD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502FC-8701-40F0-BBD9-820261D9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5016C-9019-4A60-B395-D82F0204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3DA8F-24EF-4200-9D9E-D17B87EC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2E1930-F236-465A-8209-A4947D76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59F6F9-54B7-4555-845A-07C6D9FD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20C46F-972A-40DD-880F-D96CF683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C04982-98CC-4423-834B-3440BBAA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75DDB3-A103-4D0C-AA8B-A6862799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B3DECF-1C6C-4DBE-B80A-61C74267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06D215-3D96-41E4-BF4B-6683E95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F3A088-D896-4942-A10F-E626F02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56EAF5-A919-41F8-982B-A0DF6EDE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49451-C523-40AC-8D80-CBEA412B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4A06CF-F7EC-40D0-BF92-70D27A6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DE8A26-4F3B-4E90-9CC4-1445098A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B54C19-ADCD-4096-9536-0401BD69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110B7-A265-4024-8EDC-14886929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3D7D0-1A3C-44E9-8D4F-46835699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D2647-CE9C-4DA2-9DBB-D5F377B1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D5070-3FB7-4CB8-87A8-DF788EE3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F0A64-E705-4D3C-A6C8-2D7149AE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91C66-DC6D-416D-B9EE-0324F90C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04FB7-D6E6-464E-84AD-5FE26E91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55497-B452-4EDC-A3FF-4FB361A0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05134-3878-4935-B9EB-808E1725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53712-D6A0-4EAB-854A-04E53D9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ED9B7-7723-429C-85C9-91905961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68445-4364-43B5-8C18-459B0D0E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D39B8-E0D1-49F1-97F7-CB0BAB2A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6031A-7668-46BD-B2D6-F1F73444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1F68A-C42C-4DD3-9A78-2A87FC60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EB86D-F0A6-4AB4-9AF2-9ACECE18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40DFB-ED9C-44BE-84FF-81222F8F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2FD73-B2FF-4823-863C-C19CDCCD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5AF30-51EF-49D2-AA88-8B122AB6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B7A5D-9D61-44BF-9369-143FAD84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3954D-EFB4-4C3A-9011-B28C592A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ADF4C-3906-490B-99AF-2C85A052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F4F39-261D-458F-AA9C-D612EE65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4540B-8626-47BA-B87C-2ABC8BC0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4B8191-496B-461D-A63A-07A75440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85903-0755-42F8-A22A-A11850AF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02E86-B227-4818-8AB1-394D1BB4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44711D-624F-485D-B279-A4C6F63F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71358D-65B3-4A6C-BDDD-0DE5939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A2056-EBED-4710-9B8D-E329AC6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E0224-F5EB-4F6A-9CFF-73F5FBF6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8A99C-65BE-41FE-9651-98929B7B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14E58A-F08B-49B5-9E22-47FE05DF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62D21-6404-4F51-A5DB-3878011B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5B961-7DF3-49DB-AA6C-4B2F48E2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AE3399-7090-4DBF-A4EC-CEF91608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04687-44D3-4EC4-9F39-316449C9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135E6-A6EC-4279-8848-69F75015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5ADBA-4A9A-4468-A476-EDEA11FE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0886D-BB02-4FE7-9368-6A513578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E3C689-D6C6-4CF2-955C-8819EFF4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1801F-1311-49E1-88A9-AD3E64EA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E47CE-B0A4-4813-B706-795295A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412DC-A54A-4B6C-BEAB-EBEC7064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E1D84-925E-4FCA-AF1C-69683E85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CA137-AB4D-4E17-98BF-153A7743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E7055-0F02-41DA-A7B0-6A52D3CD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10C5AB-D7A2-4654-9C49-D8AC71E7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A6E982-9260-41ED-BCB0-55A3F7EF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454F15-1055-47F8-B929-C53D19DC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4C677C-AF88-4791-BA42-CEDCC338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AB55D8-C864-494A-8B72-9EDE4D45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6B9A9-C951-4A76-9D0D-447956C0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B37E98-C598-4B75-8476-277AFCE9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9F8F0C-C89D-44DF-B97D-53291F8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7D9214-CBA6-4464-9857-DC0796B9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A5CED4-DA77-481A-88CF-CFB9CE15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3069AC-D591-4CBA-BF20-DBB41122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27C555-A2DD-4BAC-B428-6800ACCD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87EE78-6803-4EC6-A9F5-D56F7ECB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B9FF43-0BFF-4411-BCF3-6D8FFC6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154AD0-F489-40AB-8B22-15A1C020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E9E559-C6C4-49DC-B198-B0F2B26B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0BFC4E-646F-4636-98A6-88E88A67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36059A-7272-417D-A9FA-8BD65545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4D88FA-04A5-4FED-A68C-BA5FFA59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EC8721-8837-44C0-A5A7-D20419F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FC60D-B397-4408-B2F5-0087C05E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719A92-1B59-4FBB-BCFB-AAAC13AA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F73A65-8909-4ED7-A19F-13502A64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79BC6-F074-4DB0-9FA1-A2624AE6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ECBF33-355E-41C3-B9C2-31E644DD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B403A7-2418-4055-AD5E-195B7391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F3594B-827D-42BE-B7C7-94255A18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6F5E22-743A-481A-B601-8BC21A0F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45C5A-C086-4DCC-BA86-1572F7CE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552C23-EC0B-42DD-84BC-E7CD8C95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CA9D1D-018E-47E4-8DC0-6EB741E7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9496CA-D7A0-47B0-BDFC-838F254C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A89187-0A9B-4F0E-9765-8FB695FA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EA5D19-980E-4EB7-B013-1BE50852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4D285C-32E0-4335-823C-7547EBD4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F638CC-7512-4F08-9AD2-6997BBFA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C225E7-0B9F-4CC6-B9E3-C5445FA5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2A2666-060C-41B6-BC1A-8284B974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D55479-6182-4974-BED7-1D912C46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C1D945-06E5-4904-B17A-853D0EE0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3B2D88-5D76-4C03-B68B-15B91FD3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FF434B-6489-496E-84A2-59C0BC9C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7536C0-9D4F-411B-BC23-541AAEB1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A89E6C-FD3C-43A9-B241-CF58C384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417419-DF21-4534-9532-3B1A79A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1D2974-4FAD-48E5-A97C-93BCB1A3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28DFF7-CAC0-4D54-9AD5-B62F265D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88A9DC-A843-4FED-B8D5-B18326AD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4AA5D-5D01-42B9-884E-A3428545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06A08-67A8-4DFD-B1CD-A0D404BA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2FEB6-06A6-4EB6-96E5-1BFD3FA4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www.ateliers-alea.com/jeux-gratuits-ressources-jeux-gratuits-xsl-211_214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Image 6" descr="logo-alea-bleu-1.gif"/>
          <p:cNvPicPr/>
          <p:nvPr/>
        </p:nvPicPr>
        <p:blipFill>
          <a:blip r:embed="rId2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4005-FBBB-48B0-A805-A925F2513890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Image 6" descr="logo-alea-bleu-1.gif"/>
          <p:cNvPicPr/>
          <p:nvPr/>
        </p:nvPicPr>
        <p:blipFill>
          <a:blip r:embed="rId2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E01B-2578-4A7C-A6F8-8388C3EBB96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Image 6" descr="logo-alea-bleu-1.gif"/>
          <p:cNvPicPr/>
          <p:nvPr/>
        </p:nvPicPr>
        <p:blipFill>
          <a:blip r:embed="rId2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C3CB-AA8B-4570-94D4-736DE99E9B9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AB9A-AE92-4079-A017-FD00CF83FC6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0E93-92AA-4A18-B3E2-26C6BD7E3EA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2B14-E3C1-44A5-AD9A-1EBA8948CFD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0A27-1F80-4C98-9A2E-033D0FACDB2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85A6-9956-4F29-9995-99BAEDE9242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Image 6" descr="logo-alea-bleu-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949B-AAFD-4357-BD7D-E3B3353EB72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Image 6" descr="logo-alea-bleu-1.gif"/>
          <p:cNvPicPr/>
          <p:nvPr/>
        </p:nvPicPr>
        <p:blipFill>
          <a:blip r:embed="rId2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5B4F-805D-433B-9952-8AC2B90627B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5929200" y="6572160"/>
            <a:ext cx="321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ages libres de droit : http://tell.fll.purdue.edu/JapanProj/FL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73440" y="6532560"/>
            <a:ext cx="145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ww.ateliers-alea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8"/>
          <p:cNvSpPr/>
          <p:nvPr/>
        </p:nvSpPr>
        <p:spPr>
          <a:xfrm>
            <a:off x="7286760" y="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Diamorama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Passé-compo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f0"/>
                </a:solidFill>
                <a:latin typeface="Arial"/>
              </a:rPr>
              <a:t>avec « être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mage 6" descr="logo-alea-bleu-1.gif"/>
          <p:cNvPicPr/>
          <p:nvPr/>
        </p:nvPicPr>
        <p:blipFill>
          <a:blip r:embed="rId2"/>
          <a:stretch/>
        </p:blipFill>
        <p:spPr>
          <a:xfrm>
            <a:off x="71280" y="71280"/>
            <a:ext cx="648000" cy="3574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4E77-A6CB-4632-ACC2-90EE1616540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Image 7" descr="date.gif"/>
          <p:cNvPicPr/>
          <p:nvPr/>
        </p:nvPicPr>
        <p:blipFill>
          <a:blip r:embed="rId1"/>
          <a:stretch/>
        </p:blipFill>
        <p:spPr>
          <a:xfrm>
            <a:off x="1857240" y="214200"/>
            <a:ext cx="5324760" cy="49672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4711680" y="4781520"/>
            <a:ext cx="121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15000" y="4781520"/>
            <a:ext cx="289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mé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1986120" y="4786200"/>
            <a:ext cx="28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o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214200" y="3429000"/>
            <a:ext cx="162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285840" y="479736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rc 7"/>
          <p:cNvSpPr/>
          <p:nvPr/>
        </p:nvSpPr>
        <p:spPr>
          <a:xfrm flipV="1">
            <a:off x="500040" y="5572080"/>
            <a:ext cx="1071720" cy="928800"/>
          </a:xfrm>
          <a:custGeom>
            <a:avLst/>
            <a:gdLst>
              <a:gd name="textAreaLeft" fmla="*/ 3960 w 1071720"/>
              <a:gd name="textAreaRight" fmla="*/ 1072080 w 1071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071562" h="928688">
                <a:moveTo>
                  <a:pt x="4017" y="407589"/>
                </a:moveTo>
                <a:lnTo>
                  <a:pt x="4017" y="407589"/>
                </a:lnTo>
                <a:arcTo wR="535781" hR="464344" stAng="-10434474" swAng="10434481"/>
                <a:lnTo>
                  <a:pt x="535781" y="464344"/>
                </a:lnTo>
                <a:close/>
              </a:path>
              <a:path fill="none" w="1071562" h="928688">
                <a:moveTo>
                  <a:pt x="4017" y="407589"/>
                </a:moveTo>
                <a:lnTo>
                  <a:pt x="4017" y="407589"/>
                </a:lnTo>
                <a:arcTo wR="535781" hR="464344" stAng="-10434474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rc 8"/>
          <p:cNvSpPr/>
          <p:nvPr/>
        </p:nvSpPr>
        <p:spPr>
          <a:xfrm flipV="1">
            <a:off x="2071800" y="5572080"/>
            <a:ext cx="2428920" cy="928800"/>
          </a:xfrm>
          <a:custGeom>
            <a:avLst/>
            <a:gdLst>
              <a:gd name="textAreaLeft" fmla="*/ 44640 w 2428920"/>
              <a:gd name="textAreaRight" fmla="*/ 2429280 w 24289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  <a:lnTo>
                  <a:pt x="1214438" y="464344"/>
                </a:lnTo>
                <a:close/>
              </a:path>
              <a:path fill="none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rc 9"/>
          <p:cNvSpPr/>
          <p:nvPr/>
        </p:nvSpPr>
        <p:spPr>
          <a:xfrm flipV="1">
            <a:off x="4929120" y="5572080"/>
            <a:ext cx="785880" cy="928800"/>
          </a:xfrm>
          <a:custGeom>
            <a:avLst/>
            <a:gdLst>
              <a:gd name="textAreaLeft" fmla="*/ 1440 w 785880"/>
              <a:gd name="textAreaRight" fmla="*/ 786240 w 7858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785812" h="928688">
                <a:moveTo>
                  <a:pt x="1592" y="422579"/>
                </a:moveTo>
                <a:lnTo>
                  <a:pt x="1593" y="422579"/>
                </a:lnTo>
                <a:arcTo wR="392906" hR="464344" stAng="-10434473" swAng="10434473"/>
                <a:lnTo>
                  <a:pt x="392906" y="464344"/>
                </a:lnTo>
                <a:close/>
              </a:path>
              <a:path fill="none" w="785812" h="928688">
                <a:moveTo>
                  <a:pt x="1592" y="422579"/>
                </a:moveTo>
                <a:lnTo>
                  <a:pt x="1593" y="422579"/>
                </a:lnTo>
                <a:arcTo wR="392906" hR="464344" stAng="-10434473" swAng="1043447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rc 10"/>
          <p:cNvSpPr/>
          <p:nvPr/>
        </p:nvSpPr>
        <p:spPr>
          <a:xfrm flipV="1">
            <a:off x="5857920" y="5572080"/>
            <a:ext cx="2286000" cy="928800"/>
          </a:xfrm>
          <a:custGeom>
            <a:avLst/>
            <a:gdLst>
              <a:gd name="textAreaLeft" fmla="*/ 37440 w 2286000"/>
              <a:gd name="textAreaRight" fmla="*/ 2286360 w 2286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286000" h="928688">
                <a:moveTo>
                  <a:pt x="37514" y="346356"/>
                </a:moveTo>
                <a:lnTo>
                  <a:pt x="37514" y="346356"/>
                </a:lnTo>
                <a:arcTo wR="1143000" hR="464344" stAng="-10434475" swAng="10434481"/>
                <a:lnTo>
                  <a:pt x="1143000" y="464344"/>
                </a:lnTo>
                <a:close/>
              </a:path>
              <a:path fill="none" w="2286000" h="928688">
                <a:moveTo>
                  <a:pt x="37514" y="346356"/>
                </a:moveTo>
                <a:lnTo>
                  <a:pt x="37514" y="346356"/>
                </a:lnTo>
                <a:arcTo wR="1143000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1"/>
          <p:cNvSpPr/>
          <p:nvPr/>
        </p:nvSpPr>
        <p:spPr>
          <a:xfrm>
            <a:off x="428760" y="6046920"/>
            <a:ext cx="807228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6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Image 7" descr="slee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06872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2"/>
          <p:cNvSpPr/>
          <p:nvPr/>
        </p:nvSpPr>
        <p:spPr>
          <a:xfrm>
            <a:off x="1785960" y="4859280"/>
            <a:ext cx="17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3214800" y="487368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d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3552840" y="342900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u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250920" y="3430440"/>
            <a:ext cx="146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1609560" y="3430440"/>
            <a:ext cx="203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5000760" y="487368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m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rc 9"/>
          <p:cNvSpPr/>
          <p:nvPr/>
        </p:nvSpPr>
        <p:spPr>
          <a:xfrm flipV="1">
            <a:off x="1785960" y="4143240"/>
            <a:ext cx="1571760" cy="928800"/>
          </a:xfrm>
          <a:custGeom>
            <a:avLst/>
            <a:gdLst>
              <a:gd name="textAreaLeft" fmla="*/ 12240 w 1571760"/>
              <a:gd name="textAreaRight" fmla="*/ 1572120 w 157176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571625" h="928688">
                <a:moveTo>
                  <a:pt x="12512" y="381810"/>
                </a:moveTo>
                <a:lnTo>
                  <a:pt x="12513" y="381810"/>
                </a:lnTo>
                <a:arcTo wR="785813" hR="464344" stAng="-10434475" swAng="10434484"/>
                <a:lnTo>
                  <a:pt x="785813" y="464344"/>
                </a:lnTo>
                <a:close/>
              </a:path>
              <a:path fill="none" w="1571625" h="928688">
                <a:moveTo>
                  <a:pt x="12512" y="381810"/>
                </a:moveTo>
                <a:lnTo>
                  <a:pt x="12513" y="381810"/>
                </a:lnTo>
                <a:arcTo wR="785813" hR="464344" stAng="-10434475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rc 10"/>
          <p:cNvSpPr/>
          <p:nvPr/>
        </p:nvSpPr>
        <p:spPr>
          <a:xfrm flipV="1">
            <a:off x="3643200" y="4143240"/>
            <a:ext cx="2214720" cy="928800"/>
          </a:xfrm>
          <a:custGeom>
            <a:avLst/>
            <a:gdLst>
              <a:gd name="textAreaLeft" fmla="*/ 34200 w 2214720"/>
              <a:gd name="textAreaRight" fmla="*/ 2215080 w 2214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214562" h="928688">
                <a:moveTo>
                  <a:pt x="34208" y="349816"/>
                </a:moveTo>
                <a:lnTo>
                  <a:pt x="34208" y="349816"/>
                </a:lnTo>
                <a:arcTo wR="1107281" hR="464344" stAng="-10434476" swAng="10434486"/>
                <a:lnTo>
                  <a:pt x="1107281" y="464344"/>
                </a:lnTo>
                <a:close/>
              </a:path>
              <a:path fill="none" w="2214562" h="928688">
                <a:moveTo>
                  <a:pt x="34208" y="349816"/>
                </a:moveTo>
                <a:lnTo>
                  <a:pt x="34208" y="349816"/>
                </a:lnTo>
                <a:arcTo wR="1107281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rc 11"/>
          <p:cNvSpPr/>
          <p:nvPr/>
        </p:nvSpPr>
        <p:spPr>
          <a:xfrm flipV="1">
            <a:off x="1785960" y="5572080"/>
            <a:ext cx="1428840" cy="928800"/>
          </a:xfrm>
          <a:custGeom>
            <a:avLst/>
            <a:gdLst>
              <a:gd name="textAreaLeft" fmla="*/ 9360 w 1428840"/>
              <a:gd name="textAreaRight" fmla="*/ 1429200 w 14288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428750" h="928688">
                <a:moveTo>
                  <a:pt x="9440" y="389107"/>
                </a:moveTo>
                <a:lnTo>
                  <a:pt x="9440" y="389107"/>
                </a:lnTo>
                <a:arcTo wR="714375" hR="464344" stAng="-10434476" swAng="10434486"/>
                <a:lnTo>
                  <a:pt x="714375" y="464344"/>
                </a:lnTo>
                <a:close/>
              </a:path>
              <a:path fill="none" w="1428750" h="928688">
                <a:moveTo>
                  <a:pt x="9440" y="389107"/>
                </a:moveTo>
                <a:lnTo>
                  <a:pt x="9440" y="389107"/>
                </a:lnTo>
                <a:arcTo wR="714375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rc 12"/>
          <p:cNvSpPr/>
          <p:nvPr/>
        </p:nvSpPr>
        <p:spPr>
          <a:xfrm flipV="1">
            <a:off x="3357720" y="5500800"/>
            <a:ext cx="1643040" cy="1000080"/>
          </a:xfrm>
          <a:custGeom>
            <a:avLst/>
            <a:gdLst>
              <a:gd name="textAreaLeft" fmla="*/ 12240 w 1643040"/>
              <a:gd name="textAreaRight" fmla="*/ 1643400 w 164304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1643062" h="1000125">
                <a:moveTo>
                  <a:pt x="12345" y="413699"/>
                </a:moveTo>
                <a:lnTo>
                  <a:pt x="12345" y="413699"/>
                </a:lnTo>
                <a:arcTo wR="821531" hR="500063" stAng="-10434475" swAng="10434483"/>
                <a:lnTo>
                  <a:pt x="821531" y="500063"/>
                </a:lnTo>
                <a:close/>
              </a:path>
              <a:path fill="none" w="1643062" h="1000125">
                <a:moveTo>
                  <a:pt x="12345" y="413699"/>
                </a:moveTo>
                <a:lnTo>
                  <a:pt x="12345" y="413699"/>
                </a:lnTo>
                <a:arcTo wR="821531" hR="500063" stAng="-10434475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rc 13"/>
          <p:cNvSpPr/>
          <p:nvPr/>
        </p:nvSpPr>
        <p:spPr>
          <a:xfrm flipV="1">
            <a:off x="5143680" y="5572080"/>
            <a:ext cx="1928520" cy="1000080"/>
          </a:xfrm>
          <a:custGeom>
            <a:avLst/>
            <a:gdLst>
              <a:gd name="textAreaLeft" fmla="*/ 19800 w 1928520"/>
              <a:gd name="textAreaRight" fmla="*/ 1928880 w 192852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1928813" h="1000125">
                <a:moveTo>
                  <a:pt x="19803" y="399246"/>
                </a:moveTo>
                <a:lnTo>
                  <a:pt x="19803" y="399246"/>
                </a:lnTo>
                <a:arcTo wR="964407" hR="500063" stAng="-10434475" swAng="10434482"/>
                <a:lnTo>
                  <a:pt x="964407" y="500063"/>
                </a:lnTo>
                <a:close/>
              </a:path>
              <a:path fill="none" w="1928813" h="1000125">
                <a:moveTo>
                  <a:pt x="19803" y="399246"/>
                </a:moveTo>
                <a:lnTo>
                  <a:pt x="19803" y="399246"/>
                </a:lnTo>
                <a:arcTo wR="964407" hR="500063" stAng="-10434475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4"/>
          <p:cNvSpPr/>
          <p:nvPr/>
        </p:nvSpPr>
        <p:spPr>
          <a:xfrm>
            <a:off x="1500120" y="4572000"/>
            <a:ext cx="792972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5"/>
          <p:cNvSpPr/>
          <p:nvPr/>
        </p:nvSpPr>
        <p:spPr>
          <a:xfrm>
            <a:off x="0" y="6000840"/>
            <a:ext cx="89298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23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233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-8229600" y="-717120"/>
            <a:ext cx="2863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C:\Users\Ateliers ALEA\Pictures\ALEA images\IMAGES-verbes\washhand.gif"/>
          <p:cNvPicPr/>
          <p:nvPr/>
        </p:nvPicPr>
        <p:blipFill>
          <a:blip r:embed="rId1"/>
          <a:stretch/>
        </p:blipFill>
        <p:spPr>
          <a:xfrm>
            <a:off x="1071720" y="142920"/>
            <a:ext cx="6072120" cy="484020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3"/>
          <p:cNvSpPr/>
          <p:nvPr/>
        </p:nvSpPr>
        <p:spPr>
          <a:xfrm>
            <a:off x="4929120" y="4786200"/>
            <a:ext cx="18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4025880" y="4786200"/>
            <a:ext cx="165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0" y="4786200"/>
            <a:ext cx="160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1571760" y="4791240"/>
            <a:ext cx="246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’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6500880" y="544500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rc 9"/>
          <p:cNvSpPr/>
          <p:nvPr/>
        </p:nvSpPr>
        <p:spPr>
          <a:xfrm flipV="1">
            <a:off x="1714680" y="5572080"/>
            <a:ext cx="1785600" cy="928800"/>
          </a:xfrm>
          <a:custGeom>
            <a:avLst/>
            <a:gdLst>
              <a:gd name="textAreaLeft" fmla="*/ 18000 w 1785600"/>
              <a:gd name="textAreaRight" fmla="*/ 1785960 w 17856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785938" h="928688">
                <a:moveTo>
                  <a:pt x="18235" y="370984"/>
                </a:moveTo>
                <a:lnTo>
                  <a:pt x="18235" y="370984"/>
                </a:lnTo>
                <a:arcTo wR="892969" hR="464344" stAng="-10434474" swAng="10434482"/>
                <a:lnTo>
                  <a:pt x="892969" y="464344"/>
                </a:lnTo>
                <a:close/>
              </a:path>
              <a:path fill="none" w="1785938" h="928688">
                <a:moveTo>
                  <a:pt x="18235" y="370984"/>
                </a:moveTo>
                <a:lnTo>
                  <a:pt x="18235" y="370984"/>
                </a:lnTo>
                <a:arcTo wR="892969" hR="464344" stAng="-10434474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rc 10"/>
          <p:cNvSpPr/>
          <p:nvPr/>
        </p:nvSpPr>
        <p:spPr>
          <a:xfrm flipV="1">
            <a:off x="4143240" y="5572080"/>
            <a:ext cx="928800" cy="928800"/>
          </a:xfrm>
          <a:custGeom>
            <a:avLst/>
            <a:gdLst>
              <a:gd name="textAreaLeft" fmla="*/ 2520 w 928800"/>
              <a:gd name="textAreaRight" fmla="*/ 929160 w 9288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928688" h="928688">
                <a:moveTo>
                  <a:pt x="2622" y="415065"/>
                </a:moveTo>
                <a:lnTo>
                  <a:pt x="2622" y="415065"/>
                </a:lnTo>
                <a:arcTo wR="464344" hR="464344" stAng="-10434477" swAng="10434485"/>
                <a:lnTo>
                  <a:pt x="464344" y="464344"/>
                </a:lnTo>
                <a:close/>
              </a:path>
              <a:path fill="none" w="928688" h="928688">
                <a:moveTo>
                  <a:pt x="2622" y="415065"/>
                </a:moveTo>
                <a:lnTo>
                  <a:pt x="2622" y="415065"/>
                </a:lnTo>
                <a:arcTo wR="464344" hR="464344" stAng="-10434477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rc 11"/>
          <p:cNvSpPr/>
          <p:nvPr/>
        </p:nvSpPr>
        <p:spPr>
          <a:xfrm flipV="1">
            <a:off x="5143680" y="5572080"/>
            <a:ext cx="1143000" cy="928800"/>
          </a:xfrm>
          <a:custGeom>
            <a:avLst/>
            <a:gdLst>
              <a:gd name="textAreaLeft" fmla="*/ 4680 w 1143000"/>
              <a:gd name="textAreaRight" fmla="*/ 1143360 w 1143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  <a:lnTo>
                  <a:pt x="571500" y="464344"/>
                </a:lnTo>
                <a:close/>
              </a:path>
              <a:path fill="none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0" y="6046920"/>
            <a:ext cx="89298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264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"/>
          <p:cNvPicPr/>
          <p:nvPr/>
        </p:nvPicPr>
        <p:blipFill>
          <a:blip r:embed="rId1"/>
          <a:stretch/>
        </p:blipFill>
        <p:spPr>
          <a:xfrm>
            <a:off x="785880" y="189000"/>
            <a:ext cx="6715080" cy="52671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2"/>
          <p:cNvSpPr/>
          <p:nvPr/>
        </p:nvSpPr>
        <p:spPr>
          <a:xfrm>
            <a:off x="4356000" y="478152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6143760" y="4781520"/>
            <a:ext cx="24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r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900000" y="478152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2629080" y="479736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rc 6"/>
          <p:cNvSpPr/>
          <p:nvPr/>
        </p:nvSpPr>
        <p:spPr>
          <a:xfrm flipV="1">
            <a:off x="2786040" y="5572080"/>
            <a:ext cx="1214640" cy="928800"/>
          </a:xfrm>
          <a:custGeom>
            <a:avLst/>
            <a:gdLst>
              <a:gd name="textAreaLeft" fmla="*/ 5760 w 1214640"/>
              <a:gd name="textAreaRight" fmla="*/ 1215000 w 12146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214437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  <a:lnTo>
                  <a:pt x="607219" y="464344"/>
                </a:lnTo>
                <a:close/>
              </a:path>
              <a:path fill="none" w="1214437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rc 8"/>
          <p:cNvSpPr/>
          <p:nvPr/>
        </p:nvSpPr>
        <p:spPr>
          <a:xfrm flipV="1">
            <a:off x="4500720" y="5572080"/>
            <a:ext cx="1643040" cy="928800"/>
          </a:xfrm>
          <a:custGeom>
            <a:avLst/>
            <a:gdLst>
              <a:gd name="textAreaLeft" fmla="*/ 14040 w 1643040"/>
              <a:gd name="textAreaRight" fmla="*/ 1643400 w 16430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643062" h="928688">
                <a:moveTo>
                  <a:pt x="14266" y="378185"/>
                </a:moveTo>
                <a:lnTo>
                  <a:pt x="14266" y="378185"/>
                </a:lnTo>
                <a:arcTo wR="821531" hR="464344" stAng="-10434475" swAng="10434483"/>
                <a:lnTo>
                  <a:pt x="821531" y="464344"/>
                </a:lnTo>
                <a:close/>
              </a:path>
              <a:path fill="none" w="1643062" h="928688">
                <a:moveTo>
                  <a:pt x="14266" y="378185"/>
                </a:moveTo>
                <a:lnTo>
                  <a:pt x="14266" y="378185"/>
                </a:lnTo>
                <a:arcTo wR="821531" hR="464344" stAng="-10434475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rc 9"/>
          <p:cNvSpPr/>
          <p:nvPr/>
        </p:nvSpPr>
        <p:spPr>
          <a:xfrm flipV="1">
            <a:off x="6286680" y="5572080"/>
            <a:ext cx="1500120" cy="928800"/>
          </a:xfrm>
          <a:custGeom>
            <a:avLst/>
            <a:gdLst>
              <a:gd name="textAreaLeft" fmla="*/ 10800 w 1500120"/>
              <a:gd name="textAreaRight" fmla="*/ 1500480 w 15001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500188" h="928688">
                <a:moveTo>
                  <a:pt x="10906" y="385451"/>
                </a:moveTo>
                <a:lnTo>
                  <a:pt x="10906" y="385451"/>
                </a:lnTo>
                <a:arcTo wR="750094" hR="464344" stAng="-10434475" swAng="10434485"/>
                <a:lnTo>
                  <a:pt x="750094" y="464344"/>
                </a:lnTo>
                <a:close/>
              </a:path>
              <a:path fill="none" w="1500188" h="928688">
                <a:moveTo>
                  <a:pt x="10906" y="385451"/>
                </a:moveTo>
                <a:lnTo>
                  <a:pt x="10906" y="385451"/>
                </a:lnTo>
                <a:arcTo wR="750094" hR="464344" stAng="-10434475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0" y="6046920"/>
            <a:ext cx="89298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290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3"/>
          <p:cNvSpPr/>
          <p:nvPr/>
        </p:nvSpPr>
        <p:spPr>
          <a:xfrm>
            <a:off x="5357880" y="478152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s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4633920" y="4781520"/>
            <a:ext cx="165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608040" y="4781520"/>
            <a:ext cx="160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2179800" y="4786200"/>
            <a:ext cx="246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’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Image 7" descr="sit.gif"/>
          <p:cNvPicPr/>
          <p:nvPr/>
        </p:nvPicPr>
        <p:blipFill>
          <a:blip r:embed="rId1"/>
          <a:stretch/>
        </p:blipFill>
        <p:spPr>
          <a:xfrm>
            <a:off x="1785960" y="0"/>
            <a:ext cx="5405400" cy="5000760"/>
          </a:xfrm>
          <a:prstGeom prst="rect">
            <a:avLst/>
          </a:prstGeom>
          <a:ln w="0">
            <a:noFill/>
          </a:ln>
        </p:spPr>
      </p:pic>
      <p:sp>
        <p:nvSpPr>
          <p:cNvPr id="681" name="Arc 6"/>
          <p:cNvSpPr/>
          <p:nvPr/>
        </p:nvSpPr>
        <p:spPr>
          <a:xfrm flipV="1">
            <a:off x="2357280" y="5572080"/>
            <a:ext cx="1785960" cy="928800"/>
          </a:xfrm>
          <a:custGeom>
            <a:avLst/>
            <a:gdLst>
              <a:gd name="textAreaLeft" fmla="*/ 18000 w 1785960"/>
              <a:gd name="textAreaRight" fmla="*/ 1786320 w 178596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785937" h="928688">
                <a:moveTo>
                  <a:pt x="18235" y="370984"/>
                </a:moveTo>
                <a:lnTo>
                  <a:pt x="18235" y="370984"/>
                </a:lnTo>
                <a:arcTo wR="892969" hR="464344" stAng="-10434474" swAng="10434482"/>
                <a:lnTo>
                  <a:pt x="892969" y="464344"/>
                </a:lnTo>
                <a:close/>
              </a:path>
              <a:path fill="none" w="1785937" h="928688">
                <a:moveTo>
                  <a:pt x="18235" y="370984"/>
                </a:moveTo>
                <a:lnTo>
                  <a:pt x="18235" y="370984"/>
                </a:lnTo>
                <a:arcTo wR="892969" hR="464344" stAng="-10434474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rc 9"/>
          <p:cNvSpPr/>
          <p:nvPr/>
        </p:nvSpPr>
        <p:spPr>
          <a:xfrm flipV="1">
            <a:off x="4714920" y="5572080"/>
            <a:ext cx="714240" cy="928800"/>
          </a:xfrm>
          <a:custGeom>
            <a:avLst/>
            <a:gdLst>
              <a:gd name="textAreaLeft" fmla="*/ 1080 w 714240"/>
              <a:gd name="textAreaRight" fmla="*/ 714600 w 7142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714375" h="928688">
                <a:moveTo>
                  <a:pt x="1198" y="426350"/>
                </a:moveTo>
                <a:lnTo>
                  <a:pt x="1198" y="426350"/>
                </a:lnTo>
                <a:arcTo wR="357188" hR="464344" stAng="-10434471" swAng="10434471"/>
                <a:lnTo>
                  <a:pt x="357188" y="464344"/>
                </a:lnTo>
                <a:close/>
              </a:path>
              <a:path fill="none" w="714375" h="928688">
                <a:moveTo>
                  <a:pt x="1198" y="426350"/>
                </a:moveTo>
                <a:lnTo>
                  <a:pt x="1198" y="426350"/>
                </a:lnTo>
                <a:arcTo wR="357188" hR="464344" stAng="-10434471" swAng="1043447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rc 10"/>
          <p:cNvSpPr/>
          <p:nvPr/>
        </p:nvSpPr>
        <p:spPr>
          <a:xfrm flipV="1">
            <a:off x="5500800" y="5572080"/>
            <a:ext cx="2071440" cy="928800"/>
          </a:xfrm>
          <a:custGeom>
            <a:avLst/>
            <a:gdLst>
              <a:gd name="textAreaLeft" fmla="*/ 28080 w 2071440"/>
              <a:gd name="textAreaRight" fmla="*/ 2071800 w 20714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071687" h="928688">
                <a:moveTo>
                  <a:pt x="28167" y="356796"/>
                </a:moveTo>
                <a:lnTo>
                  <a:pt x="28167" y="356796"/>
                </a:lnTo>
                <a:arcTo wR="1035844" hR="464344" stAng="-10434474" swAng="10434481"/>
                <a:lnTo>
                  <a:pt x="1035844" y="464344"/>
                </a:lnTo>
                <a:close/>
              </a:path>
              <a:path fill="none" w="2071687" h="928688">
                <a:moveTo>
                  <a:pt x="28167" y="356796"/>
                </a:moveTo>
                <a:lnTo>
                  <a:pt x="28167" y="356796"/>
                </a:lnTo>
                <a:arcTo wR="1035844" hR="464344" stAng="-10434474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0" y="6046920"/>
            <a:ext cx="89298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11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C:\Users\Ateliers ALEA\Pictures\ALEA images\IMAGES-verbes\tumble.gif"/>
          <p:cNvPicPr/>
          <p:nvPr/>
        </p:nvPicPr>
        <p:blipFill>
          <a:blip r:embed="rId1"/>
          <a:stretch/>
        </p:blipFill>
        <p:spPr>
          <a:xfrm>
            <a:off x="928800" y="0"/>
            <a:ext cx="6572160" cy="50198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4"/>
          <p:cNvSpPr/>
          <p:nvPr/>
        </p:nvSpPr>
        <p:spPr>
          <a:xfrm>
            <a:off x="7553160" y="478620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b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5568840" y="4786200"/>
            <a:ext cx="221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7"/>
          <p:cNvSpPr/>
          <p:nvPr/>
        </p:nvSpPr>
        <p:spPr>
          <a:xfrm>
            <a:off x="71280" y="4807080"/>
            <a:ext cx="27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2928960" y="4791240"/>
            <a:ext cx="338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ê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rc 9"/>
          <p:cNvSpPr/>
          <p:nvPr/>
        </p:nvSpPr>
        <p:spPr>
          <a:xfrm flipV="1">
            <a:off x="3143160" y="5572080"/>
            <a:ext cx="2214720" cy="928800"/>
          </a:xfrm>
          <a:custGeom>
            <a:avLst/>
            <a:gdLst>
              <a:gd name="textAreaLeft" fmla="*/ 34200 w 2214720"/>
              <a:gd name="textAreaRight" fmla="*/ 2215080 w 2214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214563" h="928688">
                <a:moveTo>
                  <a:pt x="34208" y="349816"/>
                </a:moveTo>
                <a:lnTo>
                  <a:pt x="34207" y="349816"/>
                </a:lnTo>
                <a:arcTo wR="1107282" hR="464344" stAng="-10434476" swAng="10434486"/>
                <a:lnTo>
                  <a:pt x="1107282" y="464344"/>
                </a:lnTo>
                <a:close/>
              </a:path>
              <a:path fill="none" w="2214563" h="928688">
                <a:moveTo>
                  <a:pt x="34208" y="349816"/>
                </a:moveTo>
                <a:lnTo>
                  <a:pt x="34207" y="349816"/>
                </a:lnTo>
                <a:arcTo wR="1107282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rc 10"/>
          <p:cNvSpPr/>
          <p:nvPr/>
        </p:nvSpPr>
        <p:spPr>
          <a:xfrm flipV="1">
            <a:off x="5786280" y="5572080"/>
            <a:ext cx="1857600" cy="928800"/>
          </a:xfrm>
          <a:custGeom>
            <a:avLst/>
            <a:gdLst>
              <a:gd name="textAreaLeft" fmla="*/ 20160 w 1857600"/>
              <a:gd name="textAreaRight" fmla="*/ 1857960 w 18576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857375" h="928688">
                <a:moveTo>
                  <a:pt x="20461" y="367410"/>
                </a:moveTo>
                <a:lnTo>
                  <a:pt x="20461" y="367410"/>
                </a:lnTo>
                <a:arcTo wR="928688" hR="464344" stAng="-10434477" swAng="10434484"/>
                <a:lnTo>
                  <a:pt x="928688" y="464344"/>
                </a:lnTo>
                <a:close/>
              </a:path>
              <a:path fill="none" w="1857375" h="928688">
                <a:moveTo>
                  <a:pt x="20461" y="367410"/>
                </a:moveTo>
                <a:lnTo>
                  <a:pt x="20461" y="367410"/>
                </a:lnTo>
                <a:arcTo wR="928688" hR="464344" stAng="-10434477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rc 11"/>
          <p:cNvSpPr/>
          <p:nvPr/>
        </p:nvSpPr>
        <p:spPr>
          <a:xfrm flipV="1">
            <a:off x="7715160" y="5572080"/>
            <a:ext cx="1214640" cy="928800"/>
          </a:xfrm>
          <a:custGeom>
            <a:avLst/>
            <a:gdLst>
              <a:gd name="textAreaLeft" fmla="*/ 5760 w 1214640"/>
              <a:gd name="textAreaRight" fmla="*/ 1215000 w 12146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214438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  <a:lnTo>
                  <a:pt x="607219" y="464344"/>
                </a:lnTo>
                <a:close/>
              </a:path>
              <a:path fill="none" w="1214438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2857680" y="6046920"/>
            <a:ext cx="607212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32" dur="2000" fill="hold"/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4"/>
          <p:cNvSpPr/>
          <p:nvPr/>
        </p:nvSpPr>
        <p:spPr>
          <a:xfrm>
            <a:off x="6429240" y="478152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5497560" y="4781520"/>
            <a:ext cx="143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1428840" y="4802040"/>
            <a:ext cx="88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2468520" y="4786200"/>
            <a:ext cx="338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’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Image 6" descr="stand2.gif"/>
          <p:cNvPicPr/>
          <p:nvPr/>
        </p:nvPicPr>
        <p:blipFill>
          <a:blip r:embed="rId1"/>
          <a:stretch/>
        </p:blipFill>
        <p:spPr>
          <a:xfrm>
            <a:off x="2357280" y="0"/>
            <a:ext cx="5405760" cy="5000760"/>
          </a:xfrm>
          <a:prstGeom prst="rect">
            <a:avLst/>
          </a:prstGeom>
          <a:ln w="0">
            <a:noFill/>
          </a:ln>
        </p:spPr>
      </p:pic>
      <p:sp>
        <p:nvSpPr>
          <p:cNvPr id="699" name="Arc 7"/>
          <p:cNvSpPr/>
          <p:nvPr/>
        </p:nvSpPr>
        <p:spPr>
          <a:xfrm flipV="1">
            <a:off x="2571840" y="5500800"/>
            <a:ext cx="2643120" cy="1000080"/>
          </a:xfrm>
          <a:custGeom>
            <a:avLst/>
            <a:gdLst>
              <a:gd name="textAreaLeft" fmla="*/ 49320 w 2643120"/>
              <a:gd name="textAreaRight" fmla="*/ 2643480 w 264312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2643188" h="1000125">
                <a:moveTo>
                  <a:pt x="49632" y="364307"/>
                </a:moveTo>
                <a:lnTo>
                  <a:pt x="49632" y="364307"/>
                </a:lnTo>
                <a:arcTo wR="1321594" hR="500063" stAng="-10434477" swAng="10434485"/>
                <a:lnTo>
                  <a:pt x="1321594" y="500063"/>
                </a:lnTo>
                <a:close/>
              </a:path>
              <a:path fill="none" w="2643188" h="1000125">
                <a:moveTo>
                  <a:pt x="49632" y="364307"/>
                </a:moveTo>
                <a:lnTo>
                  <a:pt x="49632" y="364307"/>
                </a:lnTo>
                <a:arcTo wR="1321594" hR="500063" stAng="-10434477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8"/>
          <p:cNvSpPr/>
          <p:nvPr/>
        </p:nvSpPr>
        <p:spPr>
          <a:xfrm flipV="1">
            <a:off x="5572080" y="5572080"/>
            <a:ext cx="928800" cy="928800"/>
          </a:xfrm>
          <a:custGeom>
            <a:avLst/>
            <a:gdLst>
              <a:gd name="textAreaLeft" fmla="*/ 2520 w 928800"/>
              <a:gd name="textAreaRight" fmla="*/ 929160 w 9288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928688" h="928688">
                <a:moveTo>
                  <a:pt x="2622" y="415065"/>
                </a:moveTo>
                <a:lnTo>
                  <a:pt x="2622" y="415065"/>
                </a:lnTo>
                <a:arcTo wR="464344" hR="464344" stAng="-10434477" swAng="10434485"/>
                <a:lnTo>
                  <a:pt x="464344" y="464344"/>
                </a:lnTo>
                <a:close/>
              </a:path>
              <a:path fill="none" w="928688" h="928688">
                <a:moveTo>
                  <a:pt x="2622" y="415065"/>
                </a:moveTo>
                <a:lnTo>
                  <a:pt x="2622" y="415065"/>
                </a:lnTo>
                <a:arcTo wR="464344" hR="464344" stAng="-10434477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rc 9"/>
          <p:cNvSpPr/>
          <p:nvPr/>
        </p:nvSpPr>
        <p:spPr>
          <a:xfrm flipV="1">
            <a:off x="6643800" y="5572080"/>
            <a:ext cx="1143000" cy="928800"/>
          </a:xfrm>
          <a:custGeom>
            <a:avLst/>
            <a:gdLst>
              <a:gd name="textAreaLeft" fmla="*/ 4680 w 1143000"/>
              <a:gd name="textAreaRight" fmla="*/ 1143360 w 1143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  <a:lnTo>
                  <a:pt x="571500" y="464344"/>
                </a:lnTo>
                <a:close/>
              </a:path>
              <a:path fill="none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2286000" y="5929200"/>
            <a:ext cx="664380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53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C:\Users\Ateliers ALEA\Pictures\ALEA images\IMAGES-verbes\washface.gif"/>
          <p:cNvPicPr/>
          <p:nvPr/>
        </p:nvPicPr>
        <p:blipFill>
          <a:blip r:embed="rId1"/>
          <a:stretch/>
        </p:blipFill>
        <p:spPr>
          <a:xfrm>
            <a:off x="1071720" y="0"/>
            <a:ext cx="6500520" cy="42926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3"/>
          <p:cNvSpPr/>
          <p:nvPr/>
        </p:nvSpPr>
        <p:spPr>
          <a:xfrm flipH="1">
            <a:off x="-2484360" y="4365720"/>
            <a:ext cx="5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2557440" y="5301720"/>
            <a:ext cx="1008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rc 9"/>
          <p:cNvSpPr/>
          <p:nvPr/>
        </p:nvSpPr>
        <p:spPr>
          <a:xfrm flipV="1">
            <a:off x="2071800" y="4429080"/>
            <a:ext cx="1571400" cy="928800"/>
          </a:xfrm>
          <a:custGeom>
            <a:avLst/>
            <a:gdLst>
              <a:gd name="textAreaLeft" fmla="*/ 12240 w 1571400"/>
              <a:gd name="textAreaRight" fmla="*/ 1571760 w 15714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571625" h="928688">
                <a:moveTo>
                  <a:pt x="12512" y="381810"/>
                </a:moveTo>
                <a:lnTo>
                  <a:pt x="12513" y="381810"/>
                </a:lnTo>
                <a:arcTo wR="785813" hR="464344" stAng="-10434475" swAng="10434484"/>
                <a:lnTo>
                  <a:pt x="785813" y="464344"/>
                </a:lnTo>
                <a:close/>
              </a:path>
              <a:path fill="none" w="1571625" h="928688">
                <a:moveTo>
                  <a:pt x="12512" y="381810"/>
                </a:moveTo>
                <a:lnTo>
                  <a:pt x="12513" y="381810"/>
                </a:lnTo>
                <a:arcTo wR="785813" hR="464344" stAng="-10434475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10"/>
          <p:cNvSpPr/>
          <p:nvPr/>
        </p:nvSpPr>
        <p:spPr>
          <a:xfrm flipV="1">
            <a:off x="285840" y="5500800"/>
            <a:ext cx="2071440" cy="1000080"/>
          </a:xfrm>
          <a:custGeom>
            <a:avLst/>
            <a:gdLst>
              <a:gd name="textAreaLeft" fmla="*/ 24120 w 2071440"/>
              <a:gd name="textAreaRight" fmla="*/ 2071800 w 207144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2071688" h="1000125">
                <a:moveTo>
                  <a:pt x="24423" y="392114"/>
                </a:moveTo>
                <a:lnTo>
                  <a:pt x="24423" y="392114"/>
                </a:lnTo>
                <a:arcTo wR="1035844" hR="500063" stAng="-10434476" swAng="10434486"/>
                <a:lnTo>
                  <a:pt x="1035844" y="500063"/>
                </a:lnTo>
                <a:close/>
              </a:path>
              <a:path fill="none" w="2071688" h="1000125">
                <a:moveTo>
                  <a:pt x="24423" y="392114"/>
                </a:moveTo>
                <a:lnTo>
                  <a:pt x="24423" y="392114"/>
                </a:lnTo>
                <a:arcTo wR="1035844" hR="500063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rc 11"/>
          <p:cNvSpPr/>
          <p:nvPr/>
        </p:nvSpPr>
        <p:spPr>
          <a:xfrm flipV="1">
            <a:off x="3929040" y="5428440"/>
            <a:ext cx="857160" cy="1071720"/>
          </a:xfrm>
          <a:custGeom>
            <a:avLst/>
            <a:gdLst>
              <a:gd name="textAreaLeft" fmla="*/ 1440 w 857160"/>
              <a:gd name="textAreaRight" fmla="*/ 857520 w 857160"/>
              <a:gd name="textAreaTop" fmla="*/ 0 h 1071720"/>
              <a:gd name="textAreaBottom" fmla="*/ 536040 h 1071720"/>
            </a:gdLst>
            <a:ahLst/>
            <a:rect l="textAreaLeft" t="textAreaTop" r="textAreaRight" b="textAreaBottom"/>
            <a:pathLst>
              <a:path stroke="0" w="857250" h="1071563">
                <a:moveTo>
                  <a:pt x="1554" y="490201"/>
                </a:moveTo>
                <a:lnTo>
                  <a:pt x="1554" y="490201"/>
                </a:lnTo>
                <a:arcTo wR="428625" hR="535782" stAng="-10434475" swAng="10434483"/>
                <a:lnTo>
                  <a:pt x="428625" y="535782"/>
                </a:lnTo>
                <a:close/>
              </a:path>
              <a:path fill="none" w="857250" h="1071563">
                <a:moveTo>
                  <a:pt x="1554" y="490201"/>
                </a:moveTo>
                <a:lnTo>
                  <a:pt x="1554" y="490201"/>
                </a:lnTo>
                <a:arcTo wR="428625" hR="535782" stAng="-10434475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rc 12"/>
          <p:cNvSpPr/>
          <p:nvPr/>
        </p:nvSpPr>
        <p:spPr>
          <a:xfrm flipV="1">
            <a:off x="4929120" y="5572080"/>
            <a:ext cx="1071720" cy="928800"/>
          </a:xfrm>
          <a:custGeom>
            <a:avLst/>
            <a:gdLst>
              <a:gd name="textAreaLeft" fmla="*/ 3960 w 1071720"/>
              <a:gd name="textAreaRight" fmla="*/ 1072080 w 1071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071562" h="928688">
                <a:moveTo>
                  <a:pt x="4017" y="407589"/>
                </a:moveTo>
                <a:lnTo>
                  <a:pt x="4017" y="407589"/>
                </a:lnTo>
                <a:arcTo wR="535781" hR="464344" stAng="-10434474" swAng="10434481"/>
                <a:lnTo>
                  <a:pt x="535781" y="464344"/>
                </a:lnTo>
                <a:close/>
              </a:path>
              <a:path fill="none" w="1071562" h="928688">
                <a:moveTo>
                  <a:pt x="4017" y="407589"/>
                </a:moveTo>
                <a:lnTo>
                  <a:pt x="4017" y="407589"/>
                </a:lnTo>
                <a:arcTo wR="535781" hR="464344" stAng="-10434474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7"/>
          <p:cNvSpPr/>
          <p:nvPr/>
        </p:nvSpPr>
        <p:spPr>
          <a:xfrm flipH="1">
            <a:off x="684360" y="378936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Je me suis lavé le vis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4"/>
          <p:cNvSpPr/>
          <p:nvPr/>
        </p:nvSpPr>
        <p:spPr>
          <a:xfrm flipV="1">
            <a:off x="-3421080" y="1700280"/>
            <a:ext cx="86364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74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Image 6" descr="takewalk.gif"/>
          <p:cNvPicPr/>
          <p:nvPr/>
        </p:nvPicPr>
        <p:blipFill>
          <a:blip r:embed="rId1"/>
          <a:srcRect l="0" t="0" r="9057" b="0"/>
          <a:stretch/>
        </p:blipFill>
        <p:spPr>
          <a:xfrm>
            <a:off x="1762200" y="142920"/>
            <a:ext cx="5738760" cy="449568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3"/>
          <p:cNvSpPr/>
          <p:nvPr/>
        </p:nvSpPr>
        <p:spPr>
          <a:xfrm>
            <a:off x="2857680" y="4781520"/>
            <a:ext cx="38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pr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14200" y="478152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o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128520" y="185724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142920" y="3286080"/>
            <a:ext cx="158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357960" y="478800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né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rc 7"/>
          <p:cNvSpPr/>
          <p:nvPr/>
        </p:nvSpPr>
        <p:spPr>
          <a:xfrm flipV="1">
            <a:off x="357120" y="4071960"/>
            <a:ext cx="1071720" cy="1000080"/>
          </a:xfrm>
          <a:custGeom>
            <a:avLst/>
            <a:gdLst>
              <a:gd name="textAreaLeft" fmla="*/ 3240 w 1071720"/>
              <a:gd name="textAreaRight" fmla="*/ 1072080 w 107172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1071562" h="1000125">
                <a:moveTo>
                  <a:pt x="3469" y="443249"/>
                </a:moveTo>
                <a:lnTo>
                  <a:pt x="3469" y="443249"/>
                </a:lnTo>
                <a:arcTo wR="535781" hR="500063" stAng="-10434477" swAng="10434484"/>
                <a:lnTo>
                  <a:pt x="535781" y="500063"/>
                </a:lnTo>
                <a:close/>
              </a:path>
              <a:path fill="none" w="1071562" h="1000125">
                <a:moveTo>
                  <a:pt x="3469" y="443249"/>
                </a:moveTo>
                <a:lnTo>
                  <a:pt x="3469" y="443249"/>
                </a:lnTo>
                <a:arcTo wR="535781" hR="500063" stAng="-10434477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rc 9"/>
          <p:cNvSpPr/>
          <p:nvPr/>
        </p:nvSpPr>
        <p:spPr>
          <a:xfrm flipV="1">
            <a:off x="2928960" y="5572080"/>
            <a:ext cx="3429000" cy="928800"/>
          </a:xfrm>
          <a:custGeom>
            <a:avLst/>
            <a:gdLst>
              <a:gd name="textAreaLeft" fmla="*/ 119160 w 3429000"/>
              <a:gd name="textAreaRight" fmla="*/ 3429360 w 3429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3429000" h="928688">
                <a:moveTo>
                  <a:pt x="119389" y="294099"/>
                </a:moveTo>
                <a:lnTo>
                  <a:pt x="119390" y="294099"/>
                </a:lnTo>
                <a:arcTo wR="1714500" hR="464344" stAng="-10434476" swAng="10434484"/>
                <a:lnTo>
                  <a:pt x="1714500" y="464344"/>
                </a:lnTo>
                <a:close/>
              </a:path>
              <a:path fill="none" w="3429000" h="928688">
                <a:moveTo>
                  <a:pt x="119389" y="294099"/>
                </a:moveTo>
                <a:lnTo>
                  <a:pt x="119390" y="294099"/>
                </a:lnTo>
                <a:arcTo wR="1714500" hR="464344" stAng="-10434476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rc 11"/>
          <p:cNvSpPr/>
          <p:nvPr/>
        </p:nvSpPr>
        <p:spPr>
          <a:xfrm flipV="1">
            <a:off x="6429240" y="5572080"/>
            <a:ext cx="1928880" cy="928800"/>
          </a:xfrm>
          <a:custGeom>
            <a:avLst/>
            <a:gdLst>
              <a:gd name="textAreaLeft" fmla="*/ 22680 w 1928880"/>
              <a:gd name="textAreaRight" fmla="*/ 1929240 w 19288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928813" h="928688">
                <a:moveTo>
                  <a:pt x="22855" y="363853"/>
                </a:moveTo>
                <a:lnTo>
                  <a:pt x="22855" y="363853"/>
                </a:lnTo>
                <a:arcTo wR="964407" hR="464344" stAng="-10434476" swAng="10434483"/>
                <a:lnTo>
                  <a:pt x="964407" y="464344"/>
                </a:lnTo>
                <a:close/>
              </a:path>
              <a:path fill="none" w="1928813" h="928688">
                <a:moveTo>
                  <a:pt x="22855" y="363853"/>
                </a:moveTo>
                <a:lnTo>
                  <a:pt x="22855" y="363853"/>
                </a:lnTo>
                <a:arcTo wR="964407" hR="464344" stAng="-10434476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rc 12"/>
          <p:cNvSpPr/>
          <p:nvPr/>
        </p:nvSpPr>
        <p:spPr>
          <a:xfrm flipV="1">
            <a:off x="357120" y="5643000"/>
            <a:ext cx="2286000" cy="928440"/>
          </a:xfrm>
          <a:custGeom>
            <a:avLst/>
            <a:gdLst>
              <a:gd name="textAreaLeft" fmla="*/ 37440 w 2286000"/>
              <a:gd name="textAreaRight" fmla="*/ 2286360 w 2286000"/>
              <a:gd name="textAreaTop" fmla="*/ -360 h 928440"/>
              <a:gd name="textAreaBottom" fmla="*/ 464040 h 928440"/>
            </a:gdLst>
            <a:ahLst/>
            <a:rect l="textAreaLeft" t="textAreaTop" r="textAreaRight" b="textAreaBottom"/>
            <a:pathLst>
              <a:path stroke="0" w="2286000" h="928687">
                <a:moveTo>
                  <a:pt x="37514" y="346356"/>
                </a:moveTo>
                <a:lnTo>
                  <a:pt x="37514" y="346356"/>
                </a:lnTo>
                <a:arcTo wR="1143000" hR="464344" stAng="-10434475" swAng="10434481"/>
                <a:lnTo>
                  <a:pt x="1143000" y="464344"/>
                </a:lnTo>
                <a:close/>
              </a:path>
              <a:path fill="none" w="2286000" h="928687">
                <a:moveTo>
                  <a:pt x="37514" y="346356"/>
                </a:moveTo>
                <a:lnTo>
                  <a:pt x="37514" y="346356"/>
                </a:lnTo>
                <a:arcTo wR="1143000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214200" y="4572000"/>
            <a:ext cx="471492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5"/>
          <p:cNvSpPr/>
          <p:nvPr/>
        </p:nvSpPr>
        <p:spPr>
          <a:xfrm>
            <a:off x="0" y="6046920"/>
            <a:ext cx="89298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95" dur="20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398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3"/>
          <p:cNvSpPr/>
          <p:nvPr/>
        </p:nvSpPr>
        <p:spPr>
          <a:xfrm>
            <a:off x="5294160" y="4781520"/>
            <a:ext cx="184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e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6929280" y="4781520"/>
            <a:ext cx="14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ll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137120" y="4781520"/>
            <a:ext cx="150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r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24000" y="4797360"/>
            <a:ext cx="103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1220760" y="4797360"/>
            <a:ext cx="277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’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Image 7" descr="getup.gif"/>
          <p:cNvPicPr/>
          <p:nvPr/>
        </p:nvPicPr>
        <p:blipFill>
          <a:blip r:embed="rId1"/>
          <a:stretch/>
        </p:blipFill>
        <p:spPr>
          <a:xfrm>
            <a:off x="1190520" y="428760"/>
            <a:ext cx="6024600" cy="4457520"/>
          </a:xfrm>
          <a:prstGeom prst="rect">
            <a:avLst/>
          </a:prstGeom>
          <a:ln w="0">
            <a:noFill/>
          </a:ln>
        </p:spPr>
      </p:pic>
      <p:sp>
        <p:nvSpPr>
          <p:cNvPr id="562" name="Arc 7"/>
          <p:cNvSpPr/>
          <p:nvPr/>
        </p:nvSpPr>
        <p:spPr>
          <a:xfrm flipV="1">
            <a:off x="1357200" y="5572080"/>
            <a:ext cx="2571840" cy="928800"/>
          </a:xfrm>
          <a:custGeom>
            <a:avLst/>
            <a:gdLst>
              <a:gd name="textAreaLeft" fmla="*/ 52560 w 2571840"/>
              <a:gd name="textAreaRight" fmla="*/ 2572200 w 25718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571750" h="928688">
                <a:moveTo>
                  <a:pt x="52733" y="332732"/>
                </a:moveTo>
                <a:lnTo>
                  <a:pt x="52732" y="332732"/>
                </a:lnTo>
                <a:arcTo wR="1285875" hR="464344" stAng="-10434476" swAng="10434484"/>
                <a:lnTo>
                  <a:pt x="1285875" y="464344"/>
                </a:lnTo>
                <a:close/>
              </a:path>
              <a:path fill="none" w="2571750" h="928688">
                <a:moveTo>
                  <a:pt x="52733" y="332732"/>
                </a:moveTo>
                <a:lnTo>
                  <a:pt x="52732" y="332732"/>
                </a:lnTo>
                <a:arcTo wR="1285875" hR="464344" stAng="-10434476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rc 8"/>
          <p:cNvSpPr/>
          <p:nvPr/>
        </p:nvSpPr>
        <p:spPr>
          <a:xfrm flipV="1">
            <a:off x="4286160" y="5572080"/>
            <a:ext cx="1071720" cy="928800"/>
          </a:xfrm>
          <a:custGeom>
            <a:avLst/>
            <a:gdLst>
              <a:gd name="textAreaLeft" fmla="*/ 3960 w 1071720"/>
              <a:gd name="textAreaRight" fmla="*/ 1072080 w 1071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071563" h="928688">
                <a:moveTo>
                  <a:pt x="4017" y="407589"/>
                </a:moveTo>
                <a:lnTo>
                  <a:pt x="4017" y="407589"/>
                </a:lnTo>
                <a:arcTo wR="535782" hR="464344" stAng="-10434475" swAng="10434481"/>
                <a:lnTo>
                  <a:pt x="535782" y="464344"/>
                </a:lnTo>
                <a:close/>
              </a:path>
              <a:path fill="none" w="1071563" h="928688">
                <a:moveTo>
                  <a:pt x="4017" y="407589"/>
                </a:moveTo>
                <a:lnTo>
                  <a:pt x="4017" y="407589"/>
                </a:lnTo>
                <a:arcTo wR="535782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rc 9"/>
          <p:cNvSpPr/>
          <p:nvPr/>
        </p:nvSpPr>
        <p:spPr>
          <a:xfrm flipV="1">
            <a:off x="5500800" y="5500800"/>
            <a:ext cx="1500120" cy="1000080"/>
          </a:xfrm>
          <a:custGeom>
            <a:avLst/>
            <a:gdLst>
              <a:gd name="textAreaLeft" fmla="*/ 9360 w 1500120"/>
              <a:gd name="textAreaRight" fmla="*/ 1500480 w 150012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1500187" h="1000125">
                <a:moveTo>
                  <a:pt x="9432" y="421012"/>
                </a:moveTo>
                <a:lnTo>
                  <a:pt x="9431" y="421012"/>
                </a:lnTo>
                <a:arcTo wR="750094" hR="500063" stAng="-10434477" swAng="10434486"/>
                <a:lnTo>
                  <a:pt x="750094" y="500063"/>
                </a:lnTo>
                <a:close/>
              </a:path>
              <a:path fill="none" w="1500187" h="1000125">
                <a:moveTo>
                  <a:pt x="9432" y="421012"/>
                </a:moveTo>
                <a:lnTo>
                  <a:pt x="9431" y="421012"/>
                </a:lnTo>
                <a:arcTo wR="750094" hR="500063" stAng="-10434477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rc 10"/>
          <p:cNvSpPr/>
          <p:nvPr/>
        </p:nvSpPr>
        <p:spPr>
          <a:xfrm flipV="1">
            <a:off x="7072200" y="5572080"/>
            <a:ext cx="1143000" cy="928800"/>
          </a:xfrm>
          <a:custGeom>
            <a:avLst/>
            <a:gdLst>
              <a:gd name="textAreaLeft" fmla="*/ 4680 w 1143000"/>
              <a:gd name="textAreaRight" fmla="*/ 1143360 w 1143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  <a:lnTo>
                  <a:pt x="571500" y="464344"/>
                </a:lnTo>
                <a:close/>
              </a:path>
              <a:path fill="none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428760" y="6046920"/>
            <a:ext cx="807228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32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7164360" y="478152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4716360" y="478152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m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5113440" cy="47815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"/>
          <p:cNvSpPr/>
          <p:nvPr/>
        </p:nvSpPr>
        <p:spPr>
          <a:xfrm>
            <a:off x="900000" y="478152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2195640" y="479736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u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rc 6"/>
          <p:cNvSpPr/>
          <p:nvPr/>
        </p:nvSpPr>
        <p:spPr>
          <a:xfrm flipV="1">
            <a:off x="2357280" y="5572080"/>
            <a:ext cx="2071800" cy="928800"/>
          </a:xfrm>
          <a:custGeom>
            <a:avLst/>
            <a:gdLst>
              <a:gd name="textAreaLeft" fmla="*/ 28080 w 2071800"/>
              <a:gd name="textAreaRight" fmla="*/ 2072160 w 20718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071687" h="928688">
                <a:moveTo>
                  <a:pt x="28167" y="356796"/>
                </a:moveTo>
                <a:lnTo>
                  <a:pt x="28167" y="356796"/>
                </a:lnTo>
                <a:arcTo wR="1035844" hR="464344" stAng="-10434474" swAng="10434481"/>
                <a:lnTo>
                  <a:pt x="1035844" y="464344"/>
                </a:lnTo>
                <a:close/>
              </a:path>
              <a:path fill="none" w="2071687" h="928688">
                <a:moveTo>
                  <a:pt x="28167" y="356796"/>
                </a:moveTo>
                <a:lnTo>
                  <a:pt x="28167" y="356796"/>
                </a:lnTo>
                <a:arcTo wR="1035844" hR="464344" stAng="-10434474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rc 8"/>
          <p:cNvSpPr/>
          <p:nvPr/>
        </p:nvSpPr>
        <p:spPr>
          <a:xfrm flipV="1">
            <a:off x="4857840" y="5572080"/>
            <a:ext cx="2357280" cy="928800"/>
          </a:xfrm>
          <a:custGeom>
            <a:avLst/>
            <a:gdLst>
              <a:gd name="textAreaLeft" fmla="*/ 40680 w 2357280"/>
              <a:gd name="textAreaRight" fmla="*/ 2357640 w 23572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357438" h="928688">
                <a:moveTo>
                  <a:pt x="41015" y="342918"/>
                </a:moveTo>
                <a:lnTo>
                  <a:pt x="41015" y="342918"/>
                </a:lnTo>
                <a:arcTo wR="1178719" hR="464344" stAng="-10434476" swAng="10434485"/>
                <a:lnTo>
                  <a:pt x="1178719" y="464344"/>
                </a:lnTo>
                <a:close/>
              </a:path>
              <a:path fill="none" w="2357438" h="928688">
                <a:moveTo>
                  <a:pt x="41015" y="342918"/>
                </a:moveTo>
                <a:lnTo>
                  <a:pt x="41015" y="342918"/>
                </a:lnTo>
                <a:arcTo wR="1178719" hR="464344" stAng="-10434476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rc 9"/>
          <p:cNvSpPr/>
          <p:nvPr/>
        </p:nvSpPr>
        <p:spPr>
          <a:xfrm flipV="1">
            <a:off x="7286760" y="5572080"/>
            <a:ext cx="1000080" cy="928800"/>
          </a:xfrm>
          <a:custGeom>
            <a:avLst/>
            <a:gdLst>
              <a:gd name="textAreaLeft" fmla="*/ 3240 w 1000080"/>
              <a:gd name="textAreaRight" fmla="*/ 1000440 w 10000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000125" h="928688">
                <a:moveTo>
                  <a:pt x="3271" y="411322"/>
                </a:moveTo>
                <a:lnTo>
                  <a:pt x="3271" y="411322"/>
                </a:lnTo>
                <a:arcTo wR="500063" hR="464344" stAng="-10434477" swAng="10434484"/>
                <a:lnTo>
                  <a:pt x="500063" y="464344"/>
                </a:lnTo>
                <a:close/>
              </a:path>
              <a:path fill="none" w="1000125" h="928688">
                <a:moveTo>
                  <a:pt x="3271" y="411322"/>
                </a:moveTo>
                <a:lnTo>
                  <a:pt x="3271" y="411322"/>
                </a:lnTo>
                <a:arcTo wR="500063" hR="464344" stAng="-10434477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2071800" y="6046920"/>
            <a:ext cx="642924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58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Image 10" descr="introduce.gif"/>
          <p:cNvPicPr/>
          <p:nvPr/>
        </p:nvPicPr>
        <p:blipFill>
          <a:blip r:embed="rId1"/>
          <a:stretch/>
        </p:blipFill>
        <p:spPr>
          <a:xfrm>
            <a:off x="1549440" y="571680"/>
            <a:ext cx="6022800" cy="427644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2928960" y="4781520"/>
            <a:ext cx="206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pr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4714920" y="478152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42920" y="4781520"/>
            <a:ext cx="271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o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214200" y="235728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214200" y="3571920"/>
            <a:ext cx="153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6715080" y="4786200"/>
            <a:ext cx="20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é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rc 8"/>
          <p:cNvSpPr/>
          <p:nvPr/>
        </p:nvSpPr>
        <p:spPr>
          <a:xfrm flipV="1">
            <a:off x="428760" y="4286160"/>
            <a:ext cx="1143000" cy="928800"/>
          </a:xfrm>
          <a:custGeom>
            <a:avLst/>
            <a:gdLst>
              <a:gd name="textAreaLeft" fmla="*/ 4680 w 1143000"/>
              <a:gd name="textAreaRight" fmla="*/ 1143360 w 11430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  <a:lnTo>
                  <a:pt x="571500" y="464344"/>
                </a:lnTo>
                <a:close/>
              </a:path>
              <a:path fill="none" w="1143000" h="928688">
                <a:moveTo>
                  <a:pt x="4868" y="403868"/>
                </a:moveTo>
                <a:lnTo>
                  <a:pt x="4868" y="403868"/>
                </a:lnTo>
                <a:arcTo wR="571500" hR="464344" stAng="-10434477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9"/>
          <p:cNvSpPr/>
          <p:nvPr/>
        </p:nvSpPr>
        <p:spPr>
          <a:xfrm flipV="1">
            <a:off x="3000240" y="5643000"/>
            <a:ext cx="1785960" cy="857160"/>
          </a:xfrm>
          <a:custGeom>
            <a:avLst/>
            <a:gdLst>
              <a:gd name="textAreaLeft" fmla="*/ 21240 w 1785960"/>
              <a:gd name="textAreaRight" fmla="*/ 1786320 w 1785960"/>
              <a:gd name="textAreaTop" fmla="*/ 0 h 857160"/>
              <a:gd name="textAreaBottom" fmla="*/ 428760 h 857160"/>
            </a:gdLst>
            <a:ahLst/>
            <a:rect l="textAreaLeft" t="textAreaTop" r="textAreaRight" b="textAreaBottom"/>
            <a:pathLst>
              <a:path stroke="0" w="1785938" h="857250">
                <a:moveTo>
                  <a:pt x="21288" y="335591"/>
                </a:moveTo>
                <a:lnTo>
                  <a:pt x="21288" y="335591"/>
                </a:lnTo>
                <a:arcTo wR="892969" hR="428625" stAng="-10434475" swAng="10434483"/>
                <a:lnTo>
                  <a:pt x="892969" y="428625"/>
                </a:lnTo>
                <a:close/>
              </a:path>
              <a:path fill="none" w="1785938" h="857250">
                <a:moveTo>
                  <a:pt x="21288" y="335591"/>
                </a:moveTo>
                <a:lnTo>
                  <a:pt x="21288" y="335591"/>
                </a:lnTo>
                <a:arcTo wR="892969" hR="428625" stAng="-10434475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rc 10"/>
          <p:cNvSpPr/>
          <p:nvPr/>
        </p:nvSpPr>
        <p:spPr>
          <a:xfrm flipV="1">
            <a:off x="4786200" y="5572080"/>
            <a:ext cx="2000520" cy="928800"/>
          </a:xfrm>
          <a:custGeom>
            <a:avLst/>
            <a:gdLst>
              <a:gd name="textAreaLeft" fmla="*/ 25200 w 2000520"/>
              <a:gd name="textAreaRight" fmla="*/ 2000880 w 20005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000250" h="928688">
                <a:moveTo>
                  <a:pt x="25422" y="360315"/>
                </a:moveTo>
                <a:lnTo>
                  <a:pt x="25422" y="360315"/>
                </a:lnTo>
                <a:arcTo wR="1000125" hR="464344" stAng="-10434477" swAng="10434487"/>
                <a:lnTo>
                  <a:pt x="1000125" y="464344"/>
                </a:lnTo>
                <a:close/>
              </a:path>
              <a:path fill="none" w="2000250" h="928688">
                <a:moveTo>
                  <a:pt x="25422" y="360315"/>
                </a:moveTo>
                <a:lnTo>
                  <a:pt x="25422" y="360315"/>
                </a:lnTo>
                <a:arcTo wR="1000125" hR="464344" stAng="-10434477" swAng="10434487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rc 13"/>
          <p:cNvSpPr/>
          <p:nvPr/>
        </p:nvSpPr>
        <p:spPr>
          <a:xfrm flipV="1">
            <a:off x="6858000" y="5572080"/>
            <a:ext cx="1500120" cy="928800"/>
          </a:xfrm>
          <a:custGeom>
            <a:avLst/>
            <a:gdLst>
              <a:gd name="textAreaLeft" fmla="*/ 10800 w 1500120"/>
              <a:gd name="textAreaRight" fmla="*/ 1500480 w 15001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500188" h="928688">
                <a:moveTo>
                  <a:pt x="10906" y="385451"/>
                </a:moveTo>
                <a:lnTo>
                  <a:pt x="10906" y="385451"/>
                </a:lnTo>
                <a:arcTo wR="750094" hR="464344" stAng="-10434475" swAng="10434485"/>
                <a:lnTo>
                  <a:pt x="750094" y="464344"/>
                </a:lnTo>
                <a:close/>
              </a:path>
              <a:path fill="none" w="1500188" h="928688">
                <a:moveTo>
                  <a:pt x="10906" y="385451"/>
                </a:moveTo>
                <a:lnTo>
                  <a:pt x="10906" y="385451"/>
                </a:lnTo>
                <a:arcTo wR="750094" hR="464344" stAng="-10434475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rc 14"/>
          <p:cNvSpPr/>
          <p:nvPr/>
        </p:nvSpPr>
        <p:spPr>
          <a:xfrm flipV="1">
            <a:off x="214200" y="5572080"/>
            <a:ext cx="2428920" cy="928800"/>
          </a:xfrm>
          <a:custGeom>
            <a:avLst/>
            <a:gdLst>
              <a:gd name="textAreaLeft" fmla="*/ 44640 w 2428920"/>
              <a:gd name="textAreaRight" fmla="*/ 2429280 w 24289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  <a:lnTo>
                  <a:pt x="1214438" y="464344"/>
                </a:lnTo>
                <a:close/>
              </a:path>
              <a:path fill="none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214200" y="6046920"/>
            <a:ext cx="821556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79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6335640" y="4781520"/>
            <a:ext cx="180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d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4519440" y="478152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285840" y="478152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1357200" y="4788000"/>
            <a:ext cx="30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’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Image 7" descr="lose2.gif"/>
          <p:cNvPicPr/>
          <p:nvPr/>
        </p:nvPicPr>
        <p:blipFill>
          <a:blip r:embed="rId1"/>
          <a:stretch/>
        </p:blipFill>
        <p:spPr>
          <a:xfrm>
            <a:off x="1547640" y="395280"/>
            <a:ext cx="5667480" cy="4513320"/>
          </a:xfrm>
          <a:prstGeom prst="rect">
            <a:avLst/>
          </a:prstGeom>
          <a:ln w="0">
            <a:noFill/>
          </a:ln>
        </p:spPr>
      </p:pic>
      <p:sp>
        <p:nvSpPr>
          <p:cNvPr id="594" name="Arc 6"/>
          <p:cNvSpPr/>
          <p:nvPr/>
        </p:nvSpPr>
        <p:spPr>
          <a:xfrm flipV="1">
            <a:off x="1500120" y="5572080"/>
            <a:ext cx="2500560" cy="928800"/>
          </a:xfrm>
          <a:custGeom>
            <a:avLst/>
            <a:gdLst>
              <a:gd name="textAreaLeft" fmla="*/ 48600 w 2500560"/>
              <a:gd name="textAreaRight" fmla="*/ 2500920 w 250056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500312" h="928688">
                <a:moveTo>
                  <a:pt x="48621" y="336105"/>
                </a:moveTo>
                <a:lnTo>
                  <a:pt x="48621" y="336105"/>
                </a:lnTo>
                <a:arcTo wR="1250156" hR="464344" stAng="-10434475" swAng="10434484"/>
                <a:lnTo>
                  <a:pt x="1250156" y="464344"/>
                </a:lnTo>
                <a:close/>
              </a:path>
              <a:path fill="none" w="2500312" h="928688">
                <a:moveTo>
                  <a:pt x="48621" y="336105"/>
                </a:moveTo>
                <a:lnTo>
                  <a:pt x="48621" y="336105"/>
                </a:lnTo>
                <a:arcTo wR="1250156" hR="464344" stAng="-10434475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rc 8"/>
          <p:cNvSpPr/>
          <p:nvPr/>
        </p:nvSpPr>
        <p:spPr>
          <a:xfrm flipV="1">
            <a:off x="4572000" y="5572080"/>
            <a:ext cx="1714680" cy="928800"/>
          </a:xfrm>
          <a:custGeom>
            <a:avLst/>
            <a:gdLst>
              <a:gd name="textAreaLeft" fmla="*/ 15840 w 1714680"/>
              <a:gd name="textAreaRight" fmla="*/ 1715040 w 17146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714500" h="928688">
                <a:moveTo>
                  <a:pt x="16172" y="374576"/>
                </a:moveTo>
                <a:lnTo>
                  <a:pt x="16172" y="374576"/>
                </a:lnTo>
                <a:arcTo wR="857250" hR="464344" stAng="-10434474" swAng="10434482"/>
                <a:lnTo>
                  <a:pt x="857250" y="464344"/>
                </a:lnTo>
                <a:close/>
              </a:path>
              <a:path fill="none" w="1714500" h="928688">
                <a:moveTo>
                  <a:pt x="16172" y="374576"/>
                </a:moveTo>
                <a:lnTo>
                  <a:pt x="16172" y="374576"/>
                </a:lnTo>
                <a:arcTo wR="857250" hR="464344" stAng="-10434474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9"/>
          <p:cNvSpPr/>
          <p:nvPr/>
        </p:nvSpPr>
        <p:spPr>
          <a:xfrm flipV="1">
            <a:off x="6429240" y="5572080"/>
            <a:ext cx="1357560" cy="928800"/>
          </a:xfrm>
          <a:custGeom>
            <a:avLst/>
            <a:gdLst>
              <a:gd name="textAreaLeft" fmla="*/ 7920 w 1357560"/>
              <a:gd name="textAreaRight" fmla="*/ 1357920 w 135756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357313" h="928688">
                <a:moveTo>
                  <a:pt x="8109" y="392777"/>
                </a:moveTo>
                <a:lnTo>
                  <a:pt x="8109" y="392777"/>
                </a:lnTo>
                <a:arcTo wR="678657" hR="464344" stAng="-10434476" swAng="10434486"/>
                <a:lnTo>
                  <a:pt x="678657" y="464344"/>
                </a:lnTo>
                <a:close/>
              </a:path>
              <a:path fill="none" w="1357313" h="928688">
                <a:moveTo>
                  <a:pt x="8109" y="392777"/>
                </a:moveTo>
                <a:lnTo>
                  <a:pt x="8109" y="392777"/>
                </a:lnTo>
                <a:arcTo wR="678657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428760" y="6046920"/>
            <a:ext cx="807228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11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6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2612880" cy="54738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2"/>
          <p:cNvSpPr/>
          <p:nvPr/>
        </p:nvSpPr>
        <p:spPr>
          <a:xfrm>
            <a:off x="4932360" y="478152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1619280" y="478152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372360" y="4802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n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3060720" y="479736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rc 7"/>
          <p:cNvSpPr/>
          <p:nvPr/>
        </p:nvSpPr>
        <p:spPr>
          <a:xfrm flipV="1">
            <a:off x="3214800" y="5572080"/>
            <a:ext cx="1214280" cy="928800"/>
          </a:xfrm>
          <a:custGeom>
            <a:avLst/>
            <a:gdLst>
              <a:gd name="textAreaLeft" fmla="*/ 5760 w 1214280"/>
              <a:gd name="textAreaRight" fmla="*/ 1214640 w 12142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214437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  <a:lnTo>
                  <a:pt x="607219" y="464344"/>
                </a:lnTo>
                <a:close/>
              </a:path>
              <a:path fill="none" w="1214437" h="928688">
                <a:moveTo>
                  <a:pt x="5829" y="400158"/>
                </a:moveTo>
                <a:lnTo>
                  <a:pt x="5829" y="400158"/>
                </a:lnTo>
                <a:arcTo wR="607219" hR="464344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rc 8"/>
          <p:cNvSpPr/>
          <p:nvPr/>
        </p:nvSpPr>
        <p:spPr>
          <a:xfrm flipV="1">
            <a:off x="5214960" y="5500800"/>
            <a:ext cx="1143000" cy="1000080"/>
          </a:xfrm>
          <a:custGeom>
            <a:avLst/>
            <a:gdLst>
              <a:gd name="textAreaLeft" fmla="*/ 3960 w 1143000"/>
              <a:gd name="textAreaRight" fmla="*/ 1143360 w 1143000"/>
              <a:gd name="textAreaTop" fmla="*/ 360 h 1000080"/>
              <a:gd name="textAreaBottom" fmla="*/ 500400 h 1000080"/>
            </a:gdLst>
            <a:ahLst/>
            <a:rect l="textAreaLeft" t="textAreaTop" r="textAreaRight" b="textAreaBottom"/>
            <a:pathLst>
              <a:path stroke="0" w="1143000" h="1000125">
                <a:moveTo>
                  <a:pt x="4205" y="439516"/>
                </a:moveTo>
                <a:lnTo>
                  <a:pt x="4205" y="439516"/>
                </a:lnTo>
                <a:arcTo wR="571500" hR="500063" stAng="-10434475" swAng="10434481"/>
                <a:lnTo>
                  <a:pt x="571500" y="500063"/>
                </a:lnTo>
                <a:close/>
              </a:path>
              <a:path fill="none" w="1143000" h="1000125">
                <a:moveTo>
                  <a:pt x="4205" y="439516"/>
                </a:moveTo>
                <a:lnTo>
                  <a:pt x="4205" y="439516"/>
                </a:lnTo>
                <a:arcTo wR="571500" hR="500063" stAng="-10434475" swAng="1043448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rc 9"/>
          <p:cNvSpPr/>
          <p:nvPr/>
        </p:nvSpPr>
        <p:spPr>
          <a:xfrm flipV="1">
            <a:off x="6500880" y="5572080"/>
            <a:ext cx="1285920" cy="928800"/>
          </a:xfrm>
          <a:custGeom>
            <a:avLst/>
            <a:gdLst>
              <a:gd name="textAreaLeft" fmla="*/ 6840 w 1285920"/>
              <a:gd name="textAreaRight" fmla="*/ 1286280 w 12859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285875" h="928688">
                <a:moveTo>
                  <a:pt x="6907" y="396461"/>
                </a:moveTo>
                <a:lnTo>
                  <a:pt x="6907" y="396461"/>
                </a:lnTo>
                <a:arcTo wR="642938" hR="464344" stAng="-10434476" swAng="10434482"/>
                <a:lnTo>
                  <a:pt x="642938" y="464344"/>
                </a:lnTo>
                <a:close/>
              </a:path>
              <a:path fill="none" w="1285875" h="928688">
                <a:moveTo>
                  <a:pt x="6907" y="396461"/>
                </a:moveTo>
                <a:lnTo>
                  <a:pt x="6907" y="396461"/>
                </a:lnTo>
                <a:arcTo wR="642938" hR="464344" stAng="-10434476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2928960" y="6000840"/>
            <a:ext cx="5572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131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"/>
          <p:cNvPicPr/>
          <p:nvPr/>
        </p:nvPicPr>
        <p:blipFill>
          <a:blip r:embed="rId1"/>
          <a:srcRect l="0" t="22162" r="0" b="0"/>
          <a:stretch/>
        </p:blipFill>
        <p:spPr>
          <a:xfrm>
            <a:off x="5643720" y="1143000"/>
            <a:ext cx="2143080" cy="4014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"/>
          <p:cNvPicPr/>
          <p:nvPr/>
        </p:nvPicPr>
        <p:blipFill>
          <a:blip r:embed="rId2"/>
          <a:stretch/>
        </p:blipFill>
        <p:spPr>
          <a:xfrm>
            <a:off x="3419640" y="0"/>
            <a:ext cx="2442960" cy="5157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3"/>
          <a:srcRect l="0" t="22162" r="0" b="0"/>
          <a:stretch/>
        </p:blipFill>
        <p:spPr>
          <a:xfrm>
            <a:off x="1071720" y="1214280"/>
            <a:ext cx="2786040" cy="40150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"/>
          <p:cNvSpPr/>
          <p:nvPr/>
        </p:nvSpPr>
        <p:spPr>
          <a:xfrm>
            <a:off x="34920" y="478152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ell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2986200" y="478152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o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6357960" y="47530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llé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5653080" y="47530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rc 7"/>
          <p:cNvSpPr/>
          <p:nvPr/>
        </p:nvSpPr>
        <p:spPr>
          <a:xfrm flipV="1">
            <a:off x="3143160" y="5572080"/>
            <a:ext cx="2214720" cy="928800"/>
          </a:xfrm>
          <a:custGeom>
            <a:avLst/>
            <a:gdLst>
              <a:gd name="textAreaLeft" fmla="*/ 34200 w 2214720"/>
              <a:gd name="textAreaRight" fmla="*/ 2215080 w 22147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214563" h="928688">
                <a:moveTo>
                  <a:pt x="34208" y="349816"/>
                </a:moveTo>
                <a:lnTo>
                  <a:pt x="34207" y="349816"/>
                </a:lnTo>
                <a:arcTo wR="1107282" hR="464344" stAng="-10434476" swAng="10434486"/>
                <a:lnTo>
                  <a:pt x="1107282" y="464344"/>
                </a:lnTo>
                <a:close/>
              </a:path>
              <a:path fill="none" w="2214563" h="928688">
                <a:moveTo>
                  <a:pt x="34208" y="349816"/>
                </a:moveTo>
                <a:lnTo>
                  <a:pt x="34207" y="349816"/>
                </a:lnTo>
                <a:arcTo wR="1107282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rc 8"/>
          <p:cNvSpPr/>
          <p:nvPr/>
        </p:nvSpPr>
        <p:spPr>
          <a:xfrm flipV="1">
            <a:off x="5786280" y="5572080"/>
            <a:ext cx="642960" cy="928800"/>
          </a:xfrm>
          <a:custGeom>
            <a:avLst/>
            <a:gdLst>
              <a:gd name="textAreaLeft" fmla="*/ 720 w 642960"/>
              <a:gd name="textAreaRight" fmla="*/ 643320 w 64296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642937" h="928688">
                <a:moveTo>
                  <a:pt x="874" y="430127"/>
                </a:moveTo>
                <a:lnTo>
                  <a:pt x="874" y="430127"/>
                </a:lnTo>
                <a:arcTo wR="321469" hR="464344" stAng="-10434474" swAng="10434485"/>
                <a:lnTo>
                  <a:pt x="321469" y="464344"/>
                </a:lnTo>
                <a:close/>
              </a:path>
              <a:path fill="none" w="642937" h="928688">
                <a:moveTo>
                  <a:pt x="874" y="430127"/>
                </a:moveTo>
                <a:lnTo>
                  <a:pt x="874" y="430127"/>
                </a:lnTo>
                <a:arcTo wR="321469" hR="464344" stAng="-10434474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rc 9"/>
          <p:cNvSpPr/>
          <p:nvPr/>
        </p:nvSpPr>
        <p:spPr>
          <a:xfrm flipV="1">
            <a:off x="6500880" y="5572080"/>
            <a:ext cx="2428920" cy="928800"/>
          </a:xfrm>
          <a:custGeom>
            <a:avLst/>
            <a:gdLst>
              <a:gd name="textAreaLeft" fmla="*/ 44640 w 2428920"/>
              <a:gd name="textAreaRight" fmla="*/ 2429280 w 24289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  <a:lnTo>
                  <a:pt x="1214438" y="464344"/>
                </a:lnTo>
                <a:close/>
              </a:path>
              <a:path fill="none" w="2428875" h="928688">
                <a:moveTo>
                  <a:pt x="44716" y="339501"/>
                </a:moveTo>
                <a:lnTo>
                  <a:pt x="44716" y="339501"/>
                </a:lnTo>
                <a:arcTo wR="1214438" hR="464344" stAng="-10434477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928800" y="6046920"/>
            <a:ext cx="807228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5841E-006 L 0.92552 2.45841E-006 E">
                                      <p:cBhvr>
                                        <p:cTn id="152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Image 7" descr="marry.gif"/>
          <p:cNvPicPr/>
          <p:nvPr/>
        </p:nvPicPr>
        <p:blipFill>
          <a:blip r:embed="rId1"/>
          <a:stretch/>
        </p:blipFill>
        <p:spPr>
          <a:xfrm>
            <a:off x="2865600" y="0"/>
            <a:ext cx="4421160" cy="49291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"/>
          <p:cNvSpPr/>
          <p:nvPr/>
        </p:nvSpPr>
        <p:spPr>
          <a:xfrm>
            <a:off x="5143680" y="4826160"/>
            <a:ext cx="192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6804000" y="482616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rié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142920" y="4826160"/>
            <a:ext cx="479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somm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142920" y="228744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142920" y="3571920"/>
            <a:ext cx="30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rc 7"/>
          <p:cNvSpPr/>
          <p:nvPr/>
        </p:nvSpPr>
        <p:spPr>
          <a:xfrm flipV="1">
            <a:off x="0" y="5572080"/>
            <a:ext cx="4786200" cy="928800"/>
          </a:xfrm>
          <a:custGeom>
            <a:avLst/>
            <a:gdLst>
              <a:gd name="textAreaLeft" fmla="*/ 251280 w 4786200"/>
              <a:gd name="textAreaRight" fmla="*/ 4786560 w 478620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4786313" h="928688">
                <a:moveTo>
                  <a:pt x="251466" y="257144"/>
                </a:moveTo>
                <a:lnTo>
                  <a:pt x="251466" y="257144"/>
                </a:lnTo>
                <a:arcTo wR="2393157" hR="464344" stAng="-10468444" swAng="10468451"/>
                <a:lnTo>
                  <a:pt x="2393157" y="464344"/>
                </a:lnTo>
                <a:close/>
              </a:path>
              <a:path fill="none" w="4786313" h="928688">
                <a:moveTo>
                  <a:pt x="251466" y="257144"/>
                </a:moveTo>
                <a:lnTo>
                  <a:pt x="251466" y="257144"/>
                </a:lnTo>
                <a:arcTo wR="2393157" hR="464344" stAng="-10468444" swAng="10468451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rc 9"/>
          <p:cNvSpPr/>
          <p:nvPr/>
        </p:nvSpPr>
        <p:spPr>
          <a:xfrm flipV="1">
            <a:off x="5214960" y="5572080"/>
            <a:ext cx="1643040" cy="928800"/>
          </a:xfrm>
          <a:custGeom>
            <a:avLst/>
            <a:gdLst>
              <a:gd name="textAreaLeft" fmla="*/ 14040 w 1643040"/>
              <a:gd name="textAreaRight" fmla="*/ 1643400 w 164304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643062" h="928688">
                <a:moveTo>
                  <a:pt x="14266" y="378185"/>
                </a:moveTo>
                <a:lnTo>
                  <a:pt x="14266" y="378185"/>
                </a:lnTo>
                <a:arcTo wR="821531" hR="464344" stAng="-10434475" swAng="10434483"/>
                <a:lnTo>
                  <a:pt x="821531" y="464344"/>
                </a:lnTo>
                <a:close/>
              </a:path>
              <a:path fill="none" w="1643062" h="928688">
                <a:moveTo>
                  <a:pt x="14266" y="378185"/>
                </a:moveTo>
                <a:lnTo>
                  <a:pt x="14266" y="378185"/>
                </a:lnTo>
                <a:arcTo wR="821531" hR="464344" stAng="-10434475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rc 10"/>
          <p:cNvSpPr/>
          <p:nvPr/>
        </p:nvSpPr>
        <p:spPr>
          <a:xfrm flipV="1">
            <a:off x="6929280" y="5572080"/>
            <a:ext cx="1928880" cy="928800"/>
          </a:xfrm>
          <a:custGeom>
            <a:avLst/>
            <a:gdLst>
              <a:gd name="textAreaLeft" fmla="*/ 22680 w 1928880"/>
              <a:gd name="textAreaRight" fmla="*/ 1929240 w 19288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928812" h="928688">
                <a:moveTo>
                  <a:pt x="22855" y="363853"/>
                </a:moveTo>
                <a:lnTo>
                  <a:pt x="22855" y="363853"/>
                </a:lnTo>
                <a:arcTo wR="964406" hR="464344" stAng="-10434476" swAng="10434483"/>
                <a:lnTo>
                  <a:pt x="964406" y="464344"/>
                </a:lnTo>
                <a:close/>
              </a:path>
              <a:path fill="none" w="1928812" h="928688">
                <a:moveTo>
                  <a:pt x="22855" y="363853"/>
                </a:moveTo>
                <a:lnTo>
                  <a:pt x="22855" y="363853"/>
                </a:lnTo>
                <a:arcTo wR="964406" hR="464344" stAng="-10434476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rc 11"/>
          <p:cNvSpPr/>
          <p:nvPr/>
        </p:nvSpPr>
        <p:spPr>
          <a:xfrm flipV="1">
            <a:off x="357120" y="4357080"/>
            <a:ext cx="2571840" cy="928440"/>
          </a:xfrm>
          <a:custGeom>
            <a:avLst/>
            <a:gdLst>
              <a:gd name="textAreaLeft" fmla="*/ 52560 w 2571840"/>
              <a:gd name="textAreaRight" fmla="*/ 2572200 w 2571840"/>
              <a:gd name="textAreaTop" fmla="*/ -360 h 928440"/>
              <a:gd name="textAreaBottom" fmla="*/ 464040 h 928440"/>
            </a:gdLst>
            <a:ahLst/>
            <a:rect l="textAreaLeft" t="textAreaTop" r="textAreaRight" b="textAreaBottom"/>
            <a:pathLst>
              <a:path stroke="0" w="2571750" h="928687">
                <a:moveTo>
                  <a:pt x="52733" y="332731"/>
                </a:moveTo>
                <a:lnTo>
                  <a:pt x="52732" y="332731"/>
                </a:lnTo>
                <a:arcTo wR="1285875" hR="464344" stAng="-10434476" swAng="10434484"/>
                <a:lnTo>
                  <a:pt x="1285875" y="464344"/>
                </a:lnTo>
                <a:close/>
              </a:path>
              <a:path fill="none" w="2571750" h="928687">
                <a:moveTo>
                  <a:pt x="52733" y="332731"/>
                </a:moveTo>
                <a:lnTo>
                  <a:pt x="52732" y="332731"/>
                </a:lnTo>
                <a:arcTo wR="1285875" hR="464344" stAng="-10434476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0" y="6046920"/>
            <a:ext cx="89298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173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Image 6" descr="meet.gif"/>
          <p:cNvPicPr/>
          <p:nvPr/>
        </p:nvPicPr>
        <p:blipFill>
          <a:blip r:embed="rId1"/>
          <a:stretch/>
        </p:blipFill>
        <p:spPr>
          <a:xfrm>
            <a:off x="2884320" y="798480"/>
            <a:ext cx="5187960" cy="405936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2"/>
          <p:cNvSpPr/>
          <p:nvPr/>
        </p:nvSpPr>
        <p:spPr>
          <a:xfrm>
            <a:off x="71280" y="4753080"/>
            <a:ext cx="27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ê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2643120" y="4781520"/>
            <a:ext cx="214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114480" y="214308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154080" y="3373560"/>
            <a:ext cx="284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357800" y="478620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6286680" y="478620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tré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rc 9"/>
          <p:cNvSpPr/>
          <p:nvPr/>
        </p:nvSpPr>
        <p:spPr>
          <a:xfrm flipV="1">
            <a:off x="428760" y="4143240"/>
            <a:ext cx="2357280" cy="928800"/>
          </a:xfrm>
          <a:custGeom>
            <a:avLst/>
            <a:gdLst>
              <a:gd name="textAreaLeft" fmla="*/ 40680 w 2357280"/>
              <a:gd name="textAreaRight" fmla="*/ 2357640 w 235728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2357438" h="928688">
                <a:moveTo>
                  <a:pt x="41015" y="342918"/>
                </a:moveTo>
                <a:lnTo>
                  <a:pt x="41015" y="342918"/>
                </a:lnTo>
                <a:arcTo wR="1178719" hR="464344" stAng="-10434476" swAng="10434485"/>
                <a:lnTo>
                  <a:pt x="1178719" y="464344"/>
                </a:lnTo>
                <a:close/>
              </a:path>
              <a:path fill="none" w="2357438" h="928688">
                <a:moveTo>
                  <a:pt x="41015" y="342918"/>
                </a:moveTo>
                <a:lnTo>
                  <a:pt x="41015" y="342918"/>
                </a:lnTo>
                <a:arcTo wR="1178719" hR="464344" stAng="-10434476" swAng="10434485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rc 10"/>
          <p:cNvSpPr/>
          <p:nvPr/>
        </p:nvSpPr>
        <p:spPr>
          <a:xfrm flipV="1">
            <a:off x="214200" y="5500080"/>
            <a:ext cx="2214720" cy="928440"/>
          </a:xfrm>
          <a:custGeom>
            <a:avLst/>
            <a:gdLst>
              <a:gd name="textAreaLeft" fmla="*/ 34200 w 2214720"/>
              <a:gd name="textAreaRight" fmla="*/ 2215080 w 2214720"/>
              <a:gd name="textAreaTop" fmla="*/ -360 h 928440"/>
              <a:gd name="textAreaBottom" fmla="*/ 464040 h 928440"/>
            </a:gdLst>
            <a:ahLst/>
            <a:rect l="textAreaLeft" t="textAreaTop" r="textAreaRight" b="textAreaBottom"/>
            <a:pathLst>
              <a:path stroke="0" w="2214562" h="928687">
                <a:moveTo>
                  <a:pt x="34209" y="349815"/>
                </a:moveTo>
                <a:lnTo>
                  <a:pt x="34209" y="349815"/>
                </a:lnTo>
                <a:arcTo wR="1107281" hR="464344" stAng="-10434476" swAng="10434486"/>
                <a:lnTo>
                  <a:pt x="1107281" y="464344"/>
                </a:lnTo>
                <a:close/>
              </a:path>
              <a:path fill="none" w="2214562" h="928687">
                <a:moveTo>
                  <a:pt x="34209" y="349815"/>
                </a:moveTo>
                <a:lnTo>
                  <a:pt x="34209" y="349815"/>
                </a:lnTo>
                <a:arcTo wR="1107281" hR="464344" stAng="-10434476" swAng="10434486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rc 11"/>
          <p:cNvSpPr/>
          <p:nvPr/>
        </p:nvSpPr>
        <p:spPr>
          <a:xfrm flipV="1">
            <a:off x="4500720" y="5500080"/>
            <a:ext cx="1928520" cy="928440"/>
          </a:xfrm>
          <a:custGeom>
            <a:avLst/>
            <a:gdLst>
              <a:gd name="textAreaLeft" fmla="*/ 22680 w 1928520"/>
              <a:gd name="textAreaRight" fmla="*/ 1928880 w 1928520"/>
              <a:gd name="textAreaTop" fmla="*/ -360 h 928440"/>
              <a:gd name="textAreaBottom" fmla="*/ 464040 h 928440"/>
            </a:gdLst>
            <a:ahLst/>
            <a:rect l="textAreaLeft" t="textAreaTop" r="textAreaRight" b="textAreaBottom"/>
            <a:pathLst>
              <a:path stroke="0" w="1928812" h="928687">
                <a:moveTo>
                  <a:pt x="22855" y="363853"/>
                </a:moveTo>
                <a:lnTo>
                  <a:pt x="22855" y="363853"/>
                </a:lnTo>
                <a:arcTo wR="964406" hR="464344" stAng="-10434476" swAng="10434483"/>
                <a:lnTo>
                  <a:pt x="964406" y="464344"/>
                </a:lnTo>
                <a:close/>
              </a:path>
              <a:path fill="none" w="1928812" h="928687">
                <a:moveTo>
                  <a:pt x="22855" y="363853"/>
                </a:moveTo>
                <a:lnTo>
                  <a:pt x="22855" y="363853"/>
                </a:lnTo>
                <a:arcTo wR="964406" hR="464344" stAng="-10434476" swAng="10434483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rc 12"/>
          <p:cNvSpPr/>
          <p:nvPr/>
        </p:nvSpPr>
        <p:spPr>
          <a:xfrm flipV="1">
            <a:off x="6500880" y="5500080"/>
            <a:ext cx="2500200" cy="928440"/>
          </a:xfrm>
          <a:custGeom>
            <a:avLst/>
            <a:gdLst>
              <a:gd name="textAreaLeft" fmla="*/ 48600 w 2500200"/>
              <a:gd name="textAreaRight" fmla="*/ 2500560 w 2500200"/>
              <a:gd name="textAreaTop" fmla="*/ -360 h 928440"/>
              <a:gd name="textAreaBottom" fmla="*/ 464040 h 928440"/>
            </a:gdLst>
            <a:ahLst/>
            <a:rect l="textAreaLeft" t="textAreaTop" r="textAreaRight" b="textAreaBottom"/>
            <a:pathLst>
              <a:path stroke="0" w="2500312" h="928687">
                <a:moveTo>
                  <a:pt x="48621" y="336105"/>
                </a:moveTo>
                <a:lnTo>
                  <a:pt x="48621" y="336105"/>
                </a:lnTo>
                <a:arcTo wR="1250156" hR="464344" stAng="-10434475" swAng="10434484"/>
                <a:lnTo>
                  <a:pt x="1250156" y="464344"/>
                </a:lnTo>
                <a:close/>
              </a:path>
              <a:path fill="none" w="2500312" h="928687">
                <a:moveTo>
                  <a:pt x="48621" y="336105"/>
                </a:moveTo>
                <a:lnTo>
                  <a:pt x="48621" y="336105"/>
                </a:lnTo>
                <a:arcTo wR="1250156" hR="464344" stAng="-10434475" swAng="10434484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rc 13"/>
          <p:cNvSpPr/>
          <p:nvPr/>
        </p:nvSpPr>
        <p:spPr>
          <a:xfrm flipV="1">
            <a:off x="2714760" y="5572080"/>
            <a:ext cx="1714320" cy="928800"/>
          </a:xfrm>
          <a:custGeom>
            <a:avLst/>
            <a:gdLst>
              <a:gd name="textAreaLeft" fmla="*/ 15840 w 1714320"/>
              <a:gd name="textAreaRight" fmla="*/ 1714680 w 1714320"/>
              <a:gd name="textAreaTop" fmla="*/ 0 h 928800"/>
              <a:gd name="textAreaBottom" fmla="*/ 464400 h 928800"/>
            </a:gdLst>
            <a:ahLst/>
            <a:rect l="textAreaLeft" t="textAreaTop" r="textAreaRight" b="textAreaBottom"/>
            <a:pathLst>
              <a:path stroke="0" w="1714500" h="928688">
                <a:moveTo>
                  <a:pt x="16172" y="374576"/>
                </a:moveTo>
                <a:lnTo>
                  <a:pt x="16172" y="374576"/>
                </a:lnTo>
                <a:arcTo wR="857250" hR="464344" stAng="-10434474" swAng="10434482"/>
                <a:lnTo>
                  <a:pt x="857250" y="464344"/>
                </a:lnTo>
                <a:close/>
              </a:path>
              <a:path fill="none" w="1714500" h="928688">
                <a:moveTo>
                  <a:pt x="16172" y="374576"/>
                </a:moveTo>
                <a:lnTo>
                  <a:pt x="16172" y="374576"/>
                </a:lnTo>
                <a:arcTo wR="857250" hR="464344" stAng="-10434474" swAng="10434482"/>
              </a:path>
            </a:pathLst>
          </a:custGeom>
          <a:noFill/>
          <a:ln w="9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5"/>
          <p:cNvSpPr/>
          <p:nvPr/>
        </p:nvSpPr>
        <p:spPr>
          <a:xfrm>
            <a:off x="71280" y="5929200"/>
            <a:ext cx="89298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8177E-006 L 1.02761 -0.00024 E">
                                      <p:cBhvr>
                                        <p:cTn id="199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5:20:19Z</dcterms:created>
  <dc:creator>bjactat</dc:creator>
  <dc:description/>
  <dc:language>en-US</dc:language>
  <cp:lastModifiedBy>Usuario</cp:lastModifiedBy>
  <dcterms:modified xsi:type="dcterms:W3CDTF">2010-11-23T19:36:17Z</dcterms:modified>
  <cp:revision>67</cp:revision>
  <dc:subject/>
  <dc:title>Diapositive 1</dc:title>
</cp:coreProperties>
</file>